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AB6-57F2-4CDA-984C-F5C3CA00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B6AF-54CA-4CCF-844E-5506F2CFE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12C-0D15-4750-BCCC-ACAFFB41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231D-5371-4AE9-A6A1-7240E921C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9FE-1281-4379-989F-8E1EE7B2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3E5-118F-4E26-90B6-FDAB7D91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6998-3B7B-42F6-AD2A-31F1DB1A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52320" y="314280"/>
            <a:ext cx="5558040" cy="41688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7091-0195-4B0E-B03D-97B50435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32.  Long-Term Treatment of G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ed anxiety disorder is a chronic, long-term disorder.  Treatment strategies must consider the long-term nature of this disorder.  Therefore, acute, short-term treatment will not break the cycle of symptoms in a patient with GAD.  As many as 25% of patients who stop treatment will relapse within 1 month.  Up to 80% of patients will relapse within 1 year of stopping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872-1035-4788-921C-946068DE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D24D-A686-4F73-BE9C-D9994ED6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35.  Paroxetine Long-Term Treatment Study.  Percent R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oxetine relapse prevention trial was a 32-week study in which patients who completed an 8-week flexible-dose study were randomized to same-dose paroxetine (20 mg to 50 mg) or placebo for 24 additional weeks of double-blind treatment. In this study, response was defined as a CGI global improvement score of 1 or 2.  At endpoint, 88% of patients in the paroxetine LOCF group and 51% of placebo patients achieved CGI global improvement scores of 1 or 2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001) and were considered responders.  Among patients who completed the 32-week course of therapy, response rates were 96.5% for paroxetine and 79.9% for placebo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001).  A rigorous definition of remission (HAM-A total sco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 was used in this study.  As shown in this slide, the remission rate for patients who continued paroxetine therapy (LOCF population) was 73% compared with a 34% remission rate for placebo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.001).  These are clinically important findings and demonstrate the efficacy of paroxetine in the treatment of G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8AA-DED7-4AFB-BF8A-9883DB8F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A82-E70B-4EB0-80AF-08670F50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21B-A925-467A-A905-852D9DA7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0AE-5E74-456C-B527-5B01544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B0C-E1BD-47EB-8DB1-8F62AE34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EB1-CD39-4677-B151-EC5198FB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4CD-93BF-4DA2-A793-FBB1841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279-7163-404B-AE73-0D93C5C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74D-DDDF-4D34-963B-3081945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6BC-4149-406F-9578-B571DBDD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BF3-D3AD-458F-ACF0-3A96337E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5C6-C4CB-4320-B921-A5DBF1A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242-813D-4A99-A017-DF665C6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731-9837-453B-8A00-8BAAB2E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B17-184D-4D19-857D-4225ED3DB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1600" y="6251760"/>
            <a:ext cx="356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ssler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rch Gen Psychiatr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95;52:104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ssler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rch Gen Psychiatr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94;51: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233280" y="1600200"/>
          <a:ext cx="893592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1600200"/>
                    <a:ext cx="8935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alence of Anxiety Disor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ontinuation of Treatment for Anxiety Disor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drawal/rebound more common with Bzd than other anxiolytic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pse: a significant problem across treatments. Many patients require maintenance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zd abuse is rare in non-predisposed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decision: balance comfort/compliance/ comorbidity during maintenance treatment with discontinuation-associated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for Anxiolytic Discontin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t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itch to longer-acting agent for t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depres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clonidine, ?beta blockers, ? buspir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828800"/>
            <a:ext cx="7620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otonin-Norepinephrine Reuptake Inhib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lafaxine-XR (Effexor-XR) 75-300 mg/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e with 37.5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ed for GAD; effective for panic disorder, social phobia, PTSD, O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distress, jitteriness, headaches, sexual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828800"/>
            <a:ext cx="7543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ypical Antidepress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fazadone (300-500 mg/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-HT reuptake inhib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-HT2 antagon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e with 50 mg b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rtazap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experience to date in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066680"/>
            <a:ext cx="5791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ypical Antidepressant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op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limited data, considered less effective for panic and other anxiety disorders, but reports suggestive of efficacy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ic dis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anxiety dis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zo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limited data, considered less effective for panic and other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cyclic Antidepress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ipramine (Tofran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triptyline (Pamel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pramine (Norpra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triptyline (Elav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xepin (Sinequ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in anxiety with or without comorbid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ed dosage 2.25 mg/kg/d Imipramine or its equivalent for 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anxiety worsening (Initiate with “test” dose, e.g. 10 mg/d IM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cyclic Antidepressants (con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TCA 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holinergic effects (dry mouth, blurred vision,  constip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thostatic hypo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conduction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ual dys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hal in overd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gain and sedation often become increasingly problematic ov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acy: PDAG, GAD, PT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noamine Oxidase Inhibi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elzine (Nardil) 45-9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ylcypromine (Parnate) 30-6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carboxacid (Marplan) 10-3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 worsening of anxiety is unus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de effects: light-headedness, neurological symptoms, weight gain, sexual dysfunction, 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etary restrictions/Hypertensive crisis; “cheese reac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of lethal overdose and tox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reserved for refractory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acy: PDAG, SP, OCD, PT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914400"/>
            <a:ext cx="73152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zodiazep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was considered critical determinant of anti-panic effic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prazolam (Xana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azepam (Klonop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/- Lorazepam (Ativ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omparable doses of diazepam as effective as alprazol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benzodiazepines effective for generalize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600200"/>
            <a:ext cx="73152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ential Benefits of Benzodiazepine Thera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latency of therapeutic on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 tol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dose adjustment fea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sed “prn” for situational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981080"/>
            <a:ext cx="883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come of Panic Disorder at Long-Term Follow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2508120"/>
          <a:ext cx="77598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8120"/>
                    <a:ext cx="77598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80880" y="1752480"/>
            <a:ext cx="861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25240" y="6224760"/>
            <a:ext cx="278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y-Byrne &amp; Cowley, 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ential Drawbacks of Benzodiazepine Thera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se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ntinuation difficul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for abuse in substance ab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ffective for comorbid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905120"/>
            <a:ext cx="8686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lprazola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fective as AD in pa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s: rapid onset of effect, lacks typical AD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s: short duration of effect (i.e., multiple dosing, interdose rebound), discontinuation syndromes, early relapse, abuse potential, disinhib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sing: anticipate initial sedation (tachyphylaxis usually develop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: 2-10 mg/d (4-6 mg/d usual) (QID do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onazepa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eled as anticonvuls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effective as alprazolam for panic; issue of potency for anti-panic effic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s: Pharmacokinetic: longer duration of effect results in less frequent dosing, interdose symptoms, early relapse, or acute withdrawal symptoms. Slower onset of effect diminishes abuse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s: Depression not more frequent than with other Bzd”s; disinhibition, head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sing: anticipate initial sedation (initiate at 0.25-0.5 mg qh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: 1-5 mg/d (BID do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ing Antidepressan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 Benzodiazep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rapid anxiolysis during antidepressant l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s early anxiety associated with initiation of antidepres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s residual anxiety wtih antidepressant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s and treats depression on benzodiaze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676520"/>
            <a:ext cx="8686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3680" y="0"/>
          <a:ext cx="8297640" cy="58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0"/>
                    <a:ext cx="829764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058840" y="152388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8680" y="2133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5360" y="2819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8520" y="29718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9920" y="5979960"/>
            <a:ext cx="47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Together the Clonazepam groups differ from the Placebo group at p&lt; .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nazepam groups differ from each other at p&lt;.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79840" y="4648320"/>
            <a:ext cx="1616040" cy="52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onazepam Taper 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257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238880" y="5105520"/>
            <a:ext cx="152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467480" y="5105520"/>
            <a:ext cx="152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000" y="62341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llack, et al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spir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n-benzodiazepine anxiolyt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n-sedating, muscle relaxant, anticonvulsa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ffects on serotonin and dopamine recep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cated for GAD; weak antidepressant effec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ful as SSRI augmentation for panic, social phobia, depression, sexual dysfun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sing: 30-60 mg/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219320"/>
            <a:ext cx="7543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a Block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autonomic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useful as adjunct for somatic symptoms of panic and GAD but not as primary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ful for non-generalized social phobia, performance anxiety sub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ranolol 10-60 mg/d; Atenolol 50-150 mg/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convuls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proate and gabapentin effective for non-ictal pa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bapentin effective for social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bapentin (600-5400 mg/d) used as alternative to benzodiazep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proate, Carbamazepine, Gabapentin, Topiramate and Lamotrigine for PTS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for Refractory Anxiety Dis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antidepressant and benzodiazep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to psychosoci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7772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0372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rategies for Refractory Anxiety Disord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ugmentat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ticonvulsant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bapen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pro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ira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a blo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pir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dine/Guanfa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nd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aminergic agonists (e.g., Ropinirole) for social phob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prohepta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3080" y="1219320"/>
            <a:ext cx="4265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bined SSRI/TC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lternative antidepressan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mipra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osit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va-k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ypical neurolep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" y="25560"/>
            <a:ext cx="887580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-Behavioral Therapy for Anxiety Disor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BT useful alone or in combination with medication 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ractory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cognitive factors, behavioral patterns and anxiety sensi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orb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intervention for PTSD prophyl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BT may be provided by therapist or self-administe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apyWorks manuals 800-228-0752///http://www.psychcorp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BT may facilitate medication discontin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32320" y="6308640"/>
            <a:ext cx="26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8200" y="27000"/>
            <a:ext cx="86043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27560" y="6270120"/>
            <a:ext cx="5250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der =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30% decrease CAPS and CGI-S = 1 o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borg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 Clin Psychiatr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in pre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2362320"/>
          <a:ext cx="727236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27236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581280" y="2803320"/>
            <a:ext cx="1878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ustained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2080" y="4446720"/>
            <a:ext cx="2475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verted to respo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0360" y="1482840"/>
            <a:ext cx="1913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ute Ph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ponder Stat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03240" y="2112840"/>
            <a:ext cx="1735200" cy="68400"/>
            <a:chOff x="903240" y="2112840"/>
            <a:chExt cx="1735200" cy="68400"/>
          </a:xfrm>
        </p:grpSpPr>
        <p:sp>
          <p:nvSpPr>
            <p:cNvPr id="191" name=""/>
            <p:cNvSpPr/>
            <p:nvPr/>
          </p:nvSpPr>
          <p:spPr>
            <a:xfrm>
              <a:off x="903240" y="2112840"/>
              <a:ext cx="173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1520" y="2112840"/>
              <a:ext cx="0" cy="68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8440" y="2112840"/>
              <a:ext cx="0" cy="68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752560" y="2112840"/>
            <a:ext cx="4691160" cy="74880"/>
            <a:chOff x="2752560" y="2112840"/>
            <a:chExt cx="4691160" cy="74880"/>
          </a:xfrm>
        </p:grpSpPr>
        <p:sp>
          <p:nvSpPr>
            <p:cNvPr id="195" name=""/>
            <p:cNvSpPr/>
            <p:nvPr/>
          </p:nvSpPr>
          <p:spPr>
            <a:xfrm>
              <a:off x="2752560" y="2112840"/>
              <a:ext cx="4691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57960" y="2112840"/>
              <a:ext cx="0" cy="7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43720" y="2112840"/>
              <a:ext cx="0" cy="7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69080" y="4951440"/>
            <a:ext cx="2453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inu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non-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97760" y="3238560"/>
            <a:ext cx="1564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st respon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8640" y="1482840"/>
            <a:ext cx="2081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inuation Ph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ponder Stat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7120" y="-44280"/>
            <a:ext cx="77216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tinuation Phase Outcome with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traline Treatment of PTSD Based on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ute Phase Response Catego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6040" y="4543560"/>
            <a:ext cx="174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ute Ph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respon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0675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-Term Treatment Of G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09520" y="2057040"/>
            <a:ext cx="757728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treat long-te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relapse in approximately 25% of patients 1 month after stopping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%-80% relapse within 1st year after stopping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43000" y="2133720"/>
            <a:ext cx="7559640" cy="3157200"/>
            <a:chOff x="1143000" y="2133720"/>
            <a:chExt cx="7559640" cy="3157200"/>
          </a:xfrm>
        </p:grpSpPr>
        <p:sp>
          <p:nvSpPr>
            <p:cNvPr id="206" name=""/>
            <p:cNvSpPr/>
            <p:nvPr/>
          </p:nvSpPr>
          <p:spPr>
            <a:xfrm>
              <a:off x="1143000" y="2133720"/>
              <a:ext cx="7559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5290920"/>
              <a:ext cx="7559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977040" y="5334120"/>
            <a:ext cx="440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es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 Clin Psychiatr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97;58(suppl 3):76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ckels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 Clin Psychopharmac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1990;10(3 suppl):101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00240" y="1736640"/>
            <a:ext cx="6640560" cy="1685880"/>
          </a:xfrm>
          <a:custGeom>
            <a:avLst/>
            <a:gdLst/>
            <a:ahLst/>
            <a:rect l="l" t="t" r="r" b="b"/>
            <a:pathLst>
              <a:path w="4706" h="1062">
                <a:moveTo>
                  <a:pt x="0" y="0"/>
                </a:moveTo>
                <a:lnTo>
                  <a:pt x="176" y="440"/>
                </a:lnTo>
                <a:lnTo>
                  <a:pt x="336" y="683"/>
                </a:lnTo>
                <a:lnTo>
                  <a:pt x="512" y="853"/>
                </a:lnTo>
                <a:lnTo>
                  <a:pt x="694" y="1062"/>
                </a:lnTo>
                <a:lnTo>
                  <a:pt x="1035" y="980"/>
                </a:lnTo>
                <a:lnTo>
                  <a:pt x="1354" y="1024"/>
                </a:lnTo>
                <a:lnTo>
                  <a:pt x="2031" y="1018"/>
                </a:lnTo>
                <a:lnTo>
                  <a:pt x="2714" y="1002"/>
                </a:lnTo>
                <a:lnTo>
                  <a:pt x="3352" y="1046"/>
                </a:lnTo>
                <a:lnTo>
                  <a:pt x="4029" y="1007"/>
                </a:lnTo>
                <a:lnTo>
                  <a:pt x="4706" y="985"/>
                </a:lnTo>
              </a:path>
            </a:pathLst>
          </a:custGeom>
          <a:noFill/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7920" y="167940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1711440"/>
            <a:ext cx="651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5960" y="172260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9160" y="371520"/>
            <a:ext cx="868356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 Of Venlafaxine On Total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M-A Sc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27360" y="1751040"/>
            <a:ext cx="6876720" cy="3419280"/>
            <a:chOff x="1827360" y="1751040"/>
            <a:chExt cx="6876720" cy="3419280"/>
          </a:xfrm>
        </p:grpSpPr>
        <p:sp>
          <p:nvSpPr>
            <p:cNvPr id="215" name=""/>
            <p:cNvSpPr/>
            <p:nvPr/>
          </p:nvSpPr>
          <p:spPr>
            <a:xfrm>
              <a:off x="1874880" y="1751040"/>
              <a:ext cx="6829200" cy="3338280"/>
            </a:xfrm>
            <a:custGeom>
              <a:avLst/>
              <a:gdLst/>
              <a:ahLst/>
              <a:rect l="l" t="t" r="r" b="b"/>
              <a:pathLst>
                <a:path w="4839" h="2103">
                  <a:moveTo>
                    <a:pt x="0" y="0"/>
                  </a:moveTo>
                  <a:lnTo>
                    <a:pt x="0" y="2103"/>
                  </a:lnTo>
                  <a:lnTo>
                    <a:pt x="4839" y="21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827360" y="1751040"/>
              <a:ext cx="46080" cy="3338280"/>
              <a:chOff x="1827360" y="1751040"/>
              <a:chExt cx="46080" cy="333828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1827360" y="175104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827360" y="210960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827360" y="249552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827360" y="284472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827360" y="323676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827360" y="360504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827360" y="396396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827360" y="433836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827360" y="472428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827360" y="5089320"/>
                <a:ext cx="4608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115000" y="5092560"/>
              <a:ext cx="6589080" cy="77760"/>
              <a:chOff x="2115000" y="5092560"/>
              <a:chExt cx="6589080" cy="77760"/>
            </a:xfrm>
          </p:grpSpPr>
          <p:sp>
            <p:nvSpPr>
              <p:cNvPr id="228" name=""/>
              <p:cNvSpPr/>
              <p:nvPr/>
            </p:nvSpPr>
            <p:spPr>
              <a:xfrm>
                <a:off x="211500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8048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5460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3592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0284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7588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4280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1548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8852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5544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2992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9540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988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3536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04080" y="5092560"/>
                <a:ext cx="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33480" bIns="33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1671480" y="1608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3440" y="19699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3440" y="23511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3440" y="27367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440" y="31273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90760" y="347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90760" y="38559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2465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90760" y="458964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90760" y="497520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63520" y="5184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8640" y="5184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90520" y="5184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3800" y="5184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0360" y="5184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7004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3516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1000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8448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220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1472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0216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380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124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92840" y="518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2320" y="5562720"/>
            <a:ext cx="18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ek Of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9920" y="3049560"/>
            <a:ext cx="1303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In Mean HAM-A Total Sco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00240" y="1754280"/>
            <a:ext cx="6608880" cy="2455920"/>
          </a:xfrm>
          <a:custGeom>
            <a:avLst/>
            <a:gdLst/>
            <a:ahLst/>
            <a:rect l="l" t="t" r="r" b="b"/>
            <a:pathLst>
              <a:path w="4684" h="1547">
                <a:moveTo>
                  <a:pt x="0" y="0"/>
                </a:moveTo>
                <a:lnTo>
                  <a:pt x="182" y="650"/>
                </a:lnTo>
                <a:lnTo>
                  <a:pt x="341" y="1002"/>
                </a:lnTo>
                <a:lnTo>
                  <a:pt x="517" y="1200"/>
                </a:lnTo>
                <a:lnTo>
                  <a:pt x="671" y="1349"/>
                </a:lnTo>
                <a:lnTo>
                  <a:pt x="1024" y="1431"/>
                </a:lnTo>
                <a:lnTo>
                  <a:pt x="1349" y="1486"/>
                </a:lnTo>
                <a:lnTo>
                  <a:pt x="2020" y="1525"/>
                </a:lnTo>
                <a:lnTo>
                  <a:pt x="2692" y="1547"/>
                </a:lnTo>
                <a:lnTo>
                  <a:pt x="3358" y="1453"/>
                </a:lnTo>
                <a:lnTo>
                  <a:pt x="4024" y="1486"/>
                </a:lnTo>
                <a:lnTo>
                  <a:pt x="4684" y="153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80320" y="322092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31000" y="325116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480" y="4027320"/>
            <a:ext cx="666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67720" y="4113360"/>
            <a:ext cx="6516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9600" y="330192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1160" y="3251160"/>
            <a:ext cx="648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11840" y="328464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70440" y="3278160"/>
            <a:ext cx="666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98840" y="320364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25800" y="334332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90720" y="300024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2732040"/>
            <a:ext cx="666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16240" y="2363760"/>
            <a:ext cx="651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17680" y="2712960"/>
            <a:ext cx="666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17680" y="2401920"/>
            <a:ext cx="651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43040" y="2770200"/>
            <a:ext cx="669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90720" y="3032280"/>
            <a:ext cx="669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4360" y="3381480"/>
            <a:ext cx="666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3259080"/>
            <a:ext cx="651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1880" y="3319560"/>
            <a:ext cx="666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11840" y="3319560"/>
            <a:ext cx="666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1160" y="3301920"/>
            <a:ext cx="648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91400" y="3362400"/>
            <a:ext cx="666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32800" y="3284640"/>
            <a:ext cx="6660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80320" y="3267000"/>
            <a:ext cx="66960" cy="7452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640" bIns="86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8680" y="3989520"/>
            <a:ext cx="6696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9080" y="411804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27680" y="409428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720" y="403704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11440" y="3936960"/>
            <a:ext cx="6696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21120" y="381492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2520" y="3591000"/>
            <a:ext cx="66600" cy="7920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4920" bIns="349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48080" y="3271680"/>
            <a:ext cx="66600" cy="79560"/>
          </a:xfrm>
          <a:prstGeom prst="upArrow">
            <a:avLst>
              <a:gd name="adj1" fmla="val 0"/>
              <a:gd name="adj2" fmla="val 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5280" bIns="35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173844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67720" y="4146480"/>
            <a:ext cx="6516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17680" y="2743200"/>
            <a:ext cx="66600" cy="74520"/>
          </a:xfrm>
          <a:prstGeom prst="triangle">
            <a:avLst>
              <a:gd name="adj" fmla="val 53190"/>
            </a:avLst>
          </a:prstGeom>
          <a:solidFill>
            <a:srgbClr val="00ffff"/>
          </a:solidFill>
          <a:ln w="3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46280" y="330372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89280" y="3624120"/>
            <a:ext cx="66600" cy="74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22560" y="385596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3240" y="398952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83040" y="407520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24440" y="4127400"/>
            <a:ext cx="66600" cy="74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0520" y="416736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04000" y="4024440"/>
            <a:ext cx="6660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36040" y="4062240"/>
            <a:ext cx="66600" cy="74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080" bIns="-190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99280" y="1803240"/>
            <a:ext cx="66600" cy="74880"/>
          </a:xfrm>
          <a:prstGeom prst="ellipse">
            <a:avLst/>
          </a:pr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03960" y="2076480"/>
            <a:ext cx="65160" cy="745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9440" bIns="-19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92600" y="1719360"/>
            <a:ext cx="157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cebo (N=12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01240" y="1992240"/>
            <a:ext cx="225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lafaxine XR (N=1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7520" y="6044760"/>
            <a:ext cx="8181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32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.001 for venlafaxine XR vs placebo for all study weeks except week 1 (.003), week 4 (.002), and week 20 (.00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32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lafaxine XR doses: 75 to 225 mg/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32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lenberg et al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JAMA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2000;283:308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329080" y="1973160"/>
            <a:ext cx="3508920" cy="3695760"/>
            <a:chOff x="5329080" y="1973160"/>
            <a:chExt cx="3508920" cy="3695760"/>
          </a:xfrm>
        </p:grpSpPr>
        <p:sp>
          <p:nvSpPr>
            <p:cNvPr id="322" name=""/>
            <p:cNvSpPr/>
            <p:nvPr/>
          </p:nvSpPr>
          <p:spPr>
            <a:xfrm>
              <a:off x="5329080" y="3898800"/>
              <a:ext cx="209880" cy="1770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8280" y="4098960"/>
              <a:ext cx="209520" cy="1569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8120" y="4233960"/>
              <a:ext cx="209520" cy="1434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76960" y="4319640"/>
              <a:ext cx="209520" cy="1349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86800" y="4167360"/>
              <a:ext cx="209520" cy="1501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05640" y="4167360"/>
              <a:ext cx="209880" cy="1501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38960" y="3295800"/>
              <a:ext cx="209520" cy="237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57800" y="3056040"/>
              <a:ext cx="200160" cy="2612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7640" y="2836800"/>
              <a:ext cx="209520" cy="283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6480" y="2701800"/>
              <a:ext cx="200160" cy="2967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96320" y="2568600"/>
              <a:ext cx="209520" cy="3100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15520" y="2490840"/>
              <a:ext cx="199800" cy="317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3560" y="2031840"/>
              <a:ext cx="123840" cy="123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2440" y="1973160"/>
              <a:ext cx="157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227160"/>
                  <a:tab algn="l" pos="341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cebo (N=27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43560" y="2319480"/>
              <a:ext cx="123840" cy="123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61360" y="2260440"/>
              <a:ext cx="183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227160"/>
                  <a:tab algn="l" pos="341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oxetine (N=28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14840" y="301464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29360" y="278928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40640" y="253044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69200" y="241632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74000" y="225900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77360" y="2179800"/>
              <a:ext cx="2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851120" y="2084400"/>
            <a:ext cx="3278160" cy="3584520"/>
            <a:chOff x="1851120" y="2084400"/>
            <a:chExt cx="3278160" cy="3584520"/>
          </a:xfrm>
        </p:grpSpPr>
        <p:sp>
          <p:nvSpPr>
            <p:cNvPr id="345" name=""/>
            <p:cNvSpPr/>
            <p:nvPr/>
          </p:nvSpPr>
          <p:spPr>
            <a:xfrm>
              <a:off x="1851120" y="5649840"/>
              <a:ext cx="209520" cy="1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0320" y="5535720"/>
              <a:ext cx="199800" cy="133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79800" y="5248440"/>
              <a:ext cx="209520" cy="420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99000" y="4894200"/>
              <a:ext cx="199800" cy="77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08480" y="4233960"/>
              <a:ext cx="209520" cy="1434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27680" y="3583080"/>
              <a:ext cx="201600" cy="20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61360" y="2084400"/>
              <a:ext cx="2152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oxetine 20-50 mg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=599 responder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546200" y="2185920"/>
            <a:ext cx="1440" cy="348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79600" y="5668920"/>
            <a:ext cx="66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79600" y="523872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79600" y="479916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9600" y="4367160"/>
            <a:ext cx="66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79600" y="392760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79600" y="349740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79600" y="305604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79600" y="2625840"/>
            <a:ext cx="66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79600" y="2185920"/>
            <a:ext cx="66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46200" y="5668920"/>
            <a:ext cx="7373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54620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16540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774880" y="5668560"/>
            <a:ext cx="180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39408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003560" y="5668560"/>
            <a:ext cx="180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22760" y="5668560"/>
            <a:ext cx="180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23404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85324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46272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08192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691400" y="5668560"/>
            <a:ext cx="180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310600" y="5668560"/>
            <a:ext cx="144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920080" y="5668560"/>
            <a:ext cx="1800" cy="6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17960" y="5564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99520" y="5133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99520" y="4692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99520" y="4262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99520" y="3822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99520" y="3390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99520" y="2951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99520" y="2521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99520" y="2079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6760" y="3174840"/>
            <a:ext cx="969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oxetine Long-Term GAD Treatment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% Remiss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2680" y="6096240"/>
            <a:ext cx="6475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.01 vs placeb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ission = HAM-A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; LOCF datase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xoSmithKline data on file, 200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226120" y="2171520"/>
            <a:ext cx="0" cy="3514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91320" y="2701800"/>
            <a:ext cx="1632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9760" y="2976480"/>
            <a:ext cx="59364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78200" y="6006960"/>
            <a:ext cx="71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24440" y="1546200"/>
            <a:ext cx="219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I: Single-Bli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81040" y="1546200"/>
            <a:ext cx="23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II: Double-Bli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98560" y="57049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95440" y="5706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31920" y="5706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38520" y="5706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36840" y="5706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4600" y="5706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27280" y="57067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240" y="57049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9200" y="57067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73720" y="57067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89680" y="57067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05280" y="57067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2716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ontinuation of Treatment for Anxiety Disor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drawal/rebound more common with Bzd than other anxiolytic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pse: a significant problem across treatments. Many patients require maintenance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zd abuse is rare in non-predisposed individu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decision: balance comfort/compliance/ comorbidity during maintenance treatment with discontinuation-associated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for Anxiolytic Discontin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t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itch to longer-acting agent for t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jun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depres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clonidine, ?beta blockers, ? buspir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828800"/>
            <a:ext cx="7620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8200" y="163440"/>
            <a:ext cx="86043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armacopoeia for Anxiety Disor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idepress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otonin Selective Reuptake Inhibitors (SSRI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otonin-Norepinephrine Reuptake Inhibitors (SNRI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ypical Antidepres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cyclic Antidepressants (TCA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noamine Oxidase Inhibitors (MAOI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nzodiazep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ther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zaspir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ta block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ticonvuls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rateg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447920"/>
            <a:ext cx="76960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rotonin Selective Reuptake Inhibi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oxetine (Prozac), 20-8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e with 5-10 mg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traline (Zoloft), 50-20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e with 25-50 mg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oxetine (Paxil), 20-5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e with 10mg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voxamine (Luvox), 50-300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e with 25 mg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alopram (Celex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te with 10-20 mg/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low to minimize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nctive BZD, beta blo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90720"/>
            <a:ext cx="8077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rotonin Selective Reuptake Inhibitors (cont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SSRI side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distress, jitteriness, headaches, sleep disturbance, sexual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mipramine (Anafranil), 25-250 mg/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e with 25 mg/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acy: PDAG, PTSD, SP, OCD, G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077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877000" y="4970520"/>
            <a:ext cx="1009440" cy="54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2960" y="4425840"/>
            <a:ext cx="1009440" cy="108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3880" y="20192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t-trea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640" y="6478560"/>
            <a:ext cx="464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5084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dy et al. 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J Clin Psychiatry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1995;56:50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7840" y="3051000"/>
            <a:ext cx="1019160" cy="246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63800" y="3529080"/>
            <a:ext cx="1019160" cy="1985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4600" y="17431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-trea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646760" y="39448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rinks/we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90720" y="2608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92080" y="5580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28200" y="55800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lcohol 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28160" y="531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28520" y="3903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5080" y="538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4473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9440" y="3576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2668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480" y="39258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165800" y="5514840"/>
            <a:ext cx="180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5280" y="405756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43040" y="5514840"/>
            <a:ext cx="763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43040" y="4606920"/>
            <a:ext cx="76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43040" y="3710160"/>
            <a:ext cx="76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43040" y="2816280"/>
            <a:ext cx="763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719360" y="5514840"/>
            <a:ext cx="14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45280" y="2822400"/>
            <a:ext cx="1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4120" y="447480"/>
            <a:ext cx="772164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traline In Comorbid PTS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Alcoholis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12880" y="2803680"/>
            <a:ext cx="2673360" cy="2706480"/>
          </a:xfrm>
          <a:custGeom>
            <a:avLst/>
            <a:gdLst/>
            <a:ahLst/>
            <a:rect l="l" t="t" r="r" b="b"/>
            <a:pathLst>
              <a:path w="1894" h="1705">
                <a:moveTo>
                  <a:pt x="0" y="0"/>
                </a:moveTo>
                <a:lnTo>
                  <a:pt x="0" y="1705"/>
                </a:lnTo>
                <a:lnTo>
                  <a:pt x="1894" y="1705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481640" y="2803680"/>
            <a:ext cx="2673360" cy="2706480"/>
          </a:xfrm>
          <a:custGeom>
            <a:avLst/>
            <a:gdLst/>
            <a:ahLst/>
            <a:rect l="l" t="t" r="r" b="b"/>
            <a:pathLst>
              <a:path w="1894" h="1705">
                <a:moveTo>
                  <a:pt x="0" y="0"/>
                </a:moveTo>
                <a:lnTo>
                  <a:pt x="0" y="1705"/>
                </a:lnTo>
                <a:lnTo>
                  <a:pt x="1894" y="1705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5960" y="1852560"/>
            <a:ext cx="131760" cy="15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25960" y="2124000"/>
            <a:ext cx="131760" cy="157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IS</cp:lastModifiedBy>
  <dcterms:modified xsi:type="dcterms:W3CDTF">2001-07-27T19:07:25Z</dcterms:modified>
  <cp:revision>37</cp:revision>
  <dc:subject/>
  <dc:title>Serotonin Selective Reuptake Inhibitors</dc:title>
</cp:coreProperties>
</file>