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3.wmf" ContentType="image/x-wmf"/>
  <Override PartName="/ppt/media/image52.wmf" ContentType="image/x-wmf"/>
  <Override PartName="/ppt/media/image45.png" ContentType="image/png"/>
  <Override PartName="/ppt/media/image44.wmf" ContentType="image/x-wmf"/>
  <Override PartName="/ppt/media/image54.wmf" ContentType="image/x-wmf"/>
  <Override PartName="/ppt/media/BOLIDO.WAV" ContentType="audio/x-wav"/>
  <Override PartName="/ppt/media/image17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LASER.WAV" ContentType="audio/x-wav"/>
  <Override PartName="/ppt/media/TECLA.WAV" ContentType="audio/x-wav"/>
  <Override PartName="/ppt/media/image51.wmf" ContentType="image/x-wmf"/>
  <Override PartName="/ppt/media/CLIC.WAV" ContentType="audio/x-wav"/>
  <Override PartName="/ppt/media/image35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29.wmf" ContentType="image/x-wmf"/>
  <Override PartName="/ppt/media/LATIGO.WAV" ContentType="audio/x-wav"/>
  <Override PartName="/ppt/media/image31.wmf" ContentType="image/x-wmf"/>
  <Override PartName="/ppt/media/image28.png" ContentType="image/png"/>
  <Override PartName="/ppt/media/image50.wmf" ContentType="image/x-wmf"/>
  <Override PartName="/ppt/media/image39.wmf" ContentType="image/x-wmf"/>
  <Override PartName="/ppt/media/image9.wmf" ContentType="image/x-wmf"/>
  <Override PartName="/ppt/media/image23.wmf" ContentType="image/x-wmf"/>
  <Override PartName="/ppt/media/image38.wmf" ContentType="image/x-wmf"/>
  <Override PartName="/ppt/media/image8.wmf" ContentType="image/x-wmf"/>
  <Override PartName="/ppt/media/image48.wmf" ContentType="image/x-wmf"/>
  <Override PartName="/ppt/media/image22.wmf" ContentType="image/x-wmf"/>
  <Override PartName="/ppt/media/image59.wmf" ContentType="image/x-wmf"/>
  <Override PartName="/ppt/media/image55.wmf" ContentType="image/x-wmf"/>
  <Override PartName="/ppt/media/image56.wmf" ContentType="image/x-wmf"/>
  <Override PartName="/ppt/media/image58.wmf" ContentType="image/x-wmf"/>
  <Override PartName="/ppt/media/image21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27.png" ContentType="image/png"/>
  <Override PartName="/ppt/media/image30.wmf" ContentType="image/x-wmf"/>
  <Override PartName="/ppt/media/image79.wmf" ContentType="image/x-wmf"/>
  <Override PartName="/ppt/media/image80.wmf" ContentType="image/x-wmf"/>
  <Override PartName="/ppt/media/image78.wmf" ContentType="image/x-wmf"/>
  <Override PartName="/ppt/media/image77.wmf" ContentType="image/x-wmf"/>
  <Override PartName="/ppt/media/image37.png" ContentType="image/png"/>
  <Override PartName="/ppt/media/image76.wmf" ContentType="image/x-wmf"/>
  <Override PartName="/ppt/media/image36.png" ContentType="image/png"/>
  <Override PartName="/ppt/media/image40.wmf" ContentType="image/x-wmf"/>
  <Override PartName="/ppt/media/image6.png" ContentType="image/png"/>
  <Override PartName="/ppt/media/image75.wmf" ContentType="image/x-wmf"/>
  <Override PartName="/ppt/media/image74.wmf" ContentType="image/x-wmf"/>
  <Override PartName="/ppt/media/image81.png" ContentType="image/png"/>
  <Override PartName="/ppt/media/image4.png" ContentType="image/png"/>
  <Override PartName="/ppt/media/image73.wmf" ContentType="image/x-wmf"/>
  <Override PartName="/ppt/media/image15.png" ContentType="image/png"/>
  <Override PartName="/ppt/media/image3.png" ContentType="image/png"/>
  <Override PartName="/ppt/media/image72.wmf" ContentType="image/x-wmf"/>
  <Override PartName="/ppt/media/image2.png" ContentType="image/png"/>
  <Override PartName="/ppt/media/image69.wmf" ContentType="image/x-wmf"/>
  <Override PartName="/ppt/media/image71.wmf" ContentType="image/x-wmf"/>
  <Override PartName="/ppt/media/image70.wmf" ContentType="image/x-wmf"/>
  <Override PartName="/ppt/media/image6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18.wmf" ContentType="image/x-wmf"/>
  <Override PartName="/ppt/media/image83.wmf" ContentType="image/x-wmf"/>
  <Override PartName="/ppt/media/image16.wmf" ContentType="image/x-wmf"/>
  <Override PartName="/ppt/media/image57.wmf" ContentType="image/x-wmf"/>
  <Override PartName="/ppt/media/image14.jpeg" ContentType="image/jpeg"/>
  <Override PartName="/ppt/media/image13.wmf" ContentType="image/x-wmf"/>
  <Override PartName="/ppt/media/image5.png" ContentType="image/png"/>
  <Override PartName="/ppt/media/image82.png" ContentType="image/png"/>
  <Override PartName="/ppt/media/image12.wmf" ContentType="image/x-wmf"/>
  <Override PartName="/ppt/media/image49.wmf" ContentType="image/x-wmf"/>
  <Override PartName="/ppt/media/image46.png" ContentType="image/png"/>
  <Override PartName="/ppt/media/image10.wmf" ContentType="image/x-wmf"/>
  <Override PartName="/ppt/media/image47.wmf" ContentType="image/x-wmf"/>
  <Override PartName="/ppt/media/image1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520-3910-4C2D-9A4A-6DF42D5B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050-FB8F-4786-BBC7-928EBB7E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F5D-A4E0-44AC-B0CA-621EA09D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BFB-98F8-4C98-9AD1-35EA4FDE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9DA2-3E83-4A3D-83FC-ADA6A85B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9BC1-570C-4CA5-9581-1B4207CF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D5D4-9573-4248-8EC6-86BF7DD8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7BA1-CE5E-4397-ADCE-00B770A2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3D7C-4AB9-4C9A-8EC8-B8BCC5F9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0008-26A1-4A7C-9AFC-49AA3372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8610-75C2-45CA-8DE9-57040F4D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3D63-E5AD-48B7-8893-36DE1F29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6BE4-6497-4E93-90EF-26B20A54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1FE5-715E-4C9C-9361-7211B3D0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715A-3C27-4BD3-AA0C-35EFE6A7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4A84-0C51-4213-A07C-0E2561616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FA4C-BA32-4590-B21A-C2B8A9CF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18D-BCE7-4511-BFE5-44BC3194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90AF-8BB0-444F-9E5D-D0690D17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638-10C7-4398-833E-F0EA2EB5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470-0016-4155-BA5E-D9E05452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898-AB73-4383-B96C-1B93CB39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019-DBC0-43FC-BAD3-1F5864A9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48D-16BE-4051-8C9E-D2FA14BB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A4C7-CF65-48FD-91FA-014F10F9A2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DD1B-5F71-4864-A73E-67B8FA9BD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TECLA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audio" Target="../media/LATIGO.WAV"/><Relationship Id="rId5" Type="http://schemas.openxmlformats.org/officeDocument/2006/relationships/audio" Target="../media/LATIGO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7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7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audio" Target="../media/CLIC.WAV"/><Relationship Id="rId6" Type="http://schemas.openxmlformats.org/officeDocument/2006/relationships/audio" Target="../media/LATIGO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2.wmf"/><Relationship Id="rId7" Type="http://schemas.openxmlformats.org/officeDocument/2006/relationships/image" Target="../media/image42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audio" Target="../media/BOLIDO.WAV"/><Relationship Id="rId11" Type="http://schemas.openxmlformats.org/officeDocument/2006/relationships/audio" Target="../media/BOLIDO.WAV"/><Relationship Id="rId12" Type="http://schemas.openxmlformats.org/officeDocument/2006/relationships/audio" Target="../media/BOLIDO.WAV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1.wmf"/><Relationship Id="rId10" Type="http://schemas.openxmlformats.org/officeDocument/2006/relationships/image" Target="../media/image52.wmf"/><Relationship Id="rId11" Type="http://schemas.openxmlformats.org/officeDocument/2006/relationships/image" Target="../media/image51.wmf"/><Relationship Id="rId12" Type="http://schemas.openxmlformats.org/officeDocument/2006/relationships/image" Target="../media/image33.wmf"/><Relationship Id="rId13" Type="http://schemas.openxmlformats.org/officeDocument/2006/relationships/audio" Target="../media/BOLIDO.WAV"/><Relationship Id="rId14" Type="http://schemas.openxmlformats.org/officeDocument/2006/relationships/audio" Target="../media/CLIC.WAV"/><Relationship Id="rId15" Type="http://schemas.openxmlformats.org/officeDocument/2006/relationships/audio" Target="../media/LASER.WAV"/><Relationship Id="rId16" Type="http://schemas.openxmlformats.org/officeDocument/2006/relationships/audio" Target="../media/BOLIDO.WAV"/><Relationship Id="rId17" Type="http://schemas.openxmlformats.org/officeDocument/2006/relationships/audio" Target="../media/CLIC.WAV"/><Relationship Id="rId1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59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3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image" Target="../media/image66.wmf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7.wmf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wmf"/><Relationship Id="rId3" Type="http://schemas.openxmlformats.org/officeDocument/2006/relationships/image" Target="../media/image50.wmf"/><Relationship Id="rId4" Type="http://schemas.openxmlformats.org/officeDocument/2006/relationships/image" Target="../media/image69.wmf"/><Relationship Id="rId5" Type="http://schemas.openxmlformats.org/officeDocument/2006/relationships/image" Target="../media/image70.wmf"/><Relationship Id="rId6" Type="http://schemas.openxmlformats.org/officeDocument/2006/relationships/image" Target="../media/image71.wmf"/><Relationship Id="rId7" Type="http://schemas.openxmlformats.org/officeDocument/2006/relationships/image" Target="../media/image71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2.wmf"/><Relationship Id="rId11" Type="http://schemas.openxmlformats.org/officeDocument/2006/relationships/audio" Target="../media/BOLIDO.WAV"/><Relationship Id="rId1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wmf"/><Relationship Id="rId3" Type="http://schemas.openxmlformats.org/officeDocument/2006/relationships/image" Target="../media/image67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69.wmf"/><Relationship Id="rId6" Type="http://schemas.openxmlformats.org/officeDocument/2006/relationships/image" Target="../media/image50.wmf"/><Relationship Id="rId7" Type="http://schemas.openxmlformats.org/officeDocument/2006/relationships/image" Target="../media/image74.wmf"/><Relationship Id="rId8" Type="http://schemas.openxmlformats.org/officeDocument/2006/relationships/image" Target="../media/image75.wmf"/><Relationship Id="rId9" Type="http://schemas.openxmlformats.org/officeDocument/2006/relationships/image" Target="../media/image76.wmf"/><Relationship Id="rId10" Type="http://schemas.openxmlformats.org/officeDocument/2006/relationships/image" Target="../media/image77.wmf"/><Relationship Id="rId11" Type="http://schemas.openxmlformats.org/officeDocument/2006/relationships/image" Target="../media/image68.wmf"/><Relationship Id="rId12" Type="http://schemas.openxmlformats.org/officeDocument/2006/relationships/audio" Target="../media/BOLIDO.WAV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wmf"/><Relationship Id="rId3" Type="http://schemas.openxmlformats.org/officeDocument/2006/relationships/image" Target="../media/image78.wmf"/><Relationship Id="rId4" Type="http://schemas.openxmlformats.org/officeDocument/2006/relationships/image" Target="../media/image79.wmf"/><Relationship Id="rId5" Type="http://schemas.openxmlformats.org/officeDocument/2006/relationships/image" Target="../media/image8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4.wmf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audio" Target="../media/LATIGO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162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3520" y="304920"/>
            <a:ext cx="1752480" cy="2057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971800" y="1905120"/>
            <a:ext cx="380988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EMEL</a:t>
            </a:r>
            <a:endParaRPr b="0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6477120" y="4952880"/>
            <a:ext cx="24001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33520" y="3962520"/>
            <a:ext cx="815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ROGRAMA DE EDUCACION MEDICA EN LINE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240" y="46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324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838080" y="0"/>
            <a:ext cx="7543800" cy="76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XISTEN EJEMPLOS COMO LAS PROTEINAS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*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QUE INTERVIENEN EN PROCESOS DE TRANSPOR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(Na+,k -ATPas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* QUE DESEMPEÑAN FUNCIONES ESTRUCTURALES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(COMO LA TUBULIN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4343400" y="2362320"/>
            <a:ext cx="2711520" cy="1716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715000" y="274320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ATP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8200" y="2590920"/>
            <a:ext cx="429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N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934320" y="49528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52480" y="152280"/>
            <a:ext cx="5715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81680" y="655308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ccecff"/>
                </a:solidFill>
                <a:latin typeface="Times New Roman"/>
              </a:rPr>
              <a:t>GOODMAN AND GILMAN 9NA ED 1996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943600" y="1905120"/>
            <a:ext cx="2919240" cy="424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609480" y="2057400"/>
            <a:ext cx="1800360" cy="4038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05120" y="533520"/>
            <a:ext cx="48006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RECEPTORES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D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FACTORES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DE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CRECIMIENTO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45720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OTROS COMO: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6553080"/>
            <a:ext cx="236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ccecff"/>
                </a:solidFill>
                <a:latin typeface="Times New Roman"/>
              </a:rPr>
              <a:t>GOODMAN AND GILMAN 9NA ED 1996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3762360" cy="5695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80880" y="1752480"/>
            <a:ext cx="4114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ccecff"/>
                </a:solidFill>
                <a:latin typeface="Times New Roman"/>
              </a:rPr>
              <a:t>RECEPTOR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ccecff"/>
                </a:solidFill>
                <a:latin typeface="Times New Roman"/>
              </a:rPr>
              <a:t>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ecff"/>
                </a:solidFill>
                <a:latin typeface="Times New Roman"/>
              </a:rPr>
              <a:t>HORMONA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3800" y="6477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ccecff"/>
                </a:solidFill>
                <a:latin typeface="Times New Roman"/>
              </a:rPr>
              <a:t>GOODMAN AND GILMAN 9NA ED 1996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sinapsisexitatoria" descr=""/>
          <p:cNvPicPr/>
          <p:nvPr/>
        </p:nvPicPr>
        <p:blipFill>
          <a:blip r:embed="rId3"/>
          <a:stretch/>
        </p:blipFill>
        <p:spPr>
          <a:xfrm>
            <a:off x="2209680" y="228600"/>
            <a:ext cx="4648320" cy="4572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14400" y="4935600"/>
            <a:ext cx="754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RECEPTORES DE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NEUROTRANSMISORES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143000" y="380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Varios medicamentos actuan en estos receptores fisiológicos mencionados y están especializados para identificar y reaccionar a moléculas especiales de señalización siendo muy selectivos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971800" y="4068720"/>
            <a:ext cx="3124080" cy="2789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124080" y="59436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EDICAMENT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4572000"/>
            <a:ext cx="160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Times New Roman"/>
              </a:rPr>
              <a:t>RECEPTOR</a:t>
            </a:r>
            <a:r>
              <a:rPr b="1" lang="es-ES_tradnl" sz="1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0000cc"/>
                </a:solidFill>
                <a:latin typeface="Times New Roman"/>
              </a:rPr>
              <a:t>FISIOLÓGICO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5800" y="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TIPOS DE RECEPTOR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514600" y="37339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SUPERFICIE CELULA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553080" y="2590920"/>
            <a:ext cx="905040" cy="1981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810560" y="2209680"/>
            <a:ext cx="13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Times New Roman"/>
              </a:rPr>
              <a:t>CANALES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Times New Roman"/>
              </a:rPr>
              <a:t>IONICO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8006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Times New Roman"/>
              </a:rPr>
              <a:t>CON COMPUERTA PARA LIGANDOS DE VARIAS SUSUBUNIDADE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752480"/>
            <a:ext cx="39621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00"/>
                </a:solidFill>
                <a:latin typeface="Times New Roman"/>
              </a:rPr>
              <a:t>*RECEPTOR ACETILCOLINICO     NICOTINIC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00"/>
                </a:solidFill>
                <a:latin typeface="Times New Roman"/>
              </a:rPr>
              <a:t>*RECEPTOR DE GLUTAMAT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00"/>
                </a:solidFill>
                <a:latin typeface="Times New Roman"/>
              </a:rPr>
              <a:t>*RECEPTOR DE GAB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00"/>
                </a:solidFill>
                <a:latin typeface="Times New Roman"/>
              </a:rPr>
              <a:t>*RECEPTOR DE GLICINA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621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A)CANALES IONIC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838080"/>
            <a:ext cx="411480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CANALES(CONDUCTOS) IÓNIC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Los receptores de varios neurotransmisores forman canales regulados por agonistas y con selectividad iónica en la membrana plasmatica, que se han denominado canales iónicos para la entrada de ligandos que emiten señales al modificar el potencial de membrana celular o la composición iónica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4191120" y="1828800"/>
            <a:ext cx="4060800" cy="39625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172200" y="1523880"/>
            <a:ext cx="847800" cy="1295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5562720" y="1600200"/>
            <a:ext cx="610920" cy="13255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4800600" y="2362320"/>
            <a:ext cx="2762280" cy="244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638680" y="312408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3352680"/>
            <a:ext cx="609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914400"/>
            <a:ext cx="1067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09480" y="990720"/>
            <a:ext cx="800100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0000"/>
                </a:solidFill>
                <a:latin typeface="Times New Roman"/>
              </a:rPr>
              <a:t>LOS RECEPTORES COMO ENZIMAS:</a:t>
            </a:r>
            <a:r>
              <a:rPr b="1" i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OTEICINASAS RECEPTORA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Los receptores de hormonas que regulan el crecimiento, la diferenciación y el desarrollo suelen ser proteicinasas ligadas a membranas plasmaticas que actúan por fosforilación de proteínas  blanc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457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B) ENZIMA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0"/>
            <a:ext cx="8077320" cy="60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CEPTORES FISIOLOGICO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PROTEICINASA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743200" y="3124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SUPERFICIE CELULA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447920" y="2133720"/>
            <a:ext cx="838080" cy="22096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2120" y="14479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RECEPTORES COMO ENZIMA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838080" y="3733920"/>
            <a:ext cx="2266920" cy="885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762120" y="1905120"/>
            <a:ext cx="2266920" cy="885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295280" y="2438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UNION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42670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Times New Roman"/>
              </a:rPr>
              <a:t>CATALISIS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3490920"/>
            <a:ext cx="624852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CTIVIDADES CATALITICAS: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                             </a:t>
            </a: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* TISOSINAS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                                  </a:t>
            </a: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-  receptores de factor de crecimiento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CITOPLASMA</a:t>
            </a: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      -  receptores de factor de neutrofilo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                              </a:t>
            </a: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* TIROSINFOSFATASA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                              </a:t>
            </a: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* CINASAS DE SERINA/TREONINA     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                                   </a:t>
            </a: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- receptor de TGFb (factor transformador de crecimiento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                              </a:t>
            </a: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* GUANILCICLASA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                                   </a:t>
            </a: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-  receptor de ANF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                                    </a:t>
            </a: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- receptor de guanilina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NUCLEO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                     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3809880" y="5638680"/>
            <a:ext cx="2362320" cy="609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3520" y="6234120"/>
            <a:ext cx="4800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*REGULACION Y TRANSCRIPCION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-ESTEROIDES/RETINOIDES/HORMONA TIROIDEA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 flipH="1" rot="10800000">
            <a:off x="5105520" y="6478560"/>
            <a:ext cx="1492200" cy="379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781680" y="63244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RECEPTO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CITOSOLIC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30492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"/>
              </a:rPr>
              <a:t>Mecanismos de transducción de los receptores</a:t>
            </a:r>
            <a:r>
              <a:rPr b="1" lang="es-MX" sz="2400" spc="-1" strike="noStrike">
                <a:solidFill>
                  <a:srgbClr val="e70026"/>
                </a:solidFill>
                <a:latin typeface="TimesNewRoman,Bold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 New Roman"/>
              </a:rPr>
              <a:t>Receptores citoplasmátic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Algunas hormonas son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liposolubles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y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atraviesan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la membana celular, y los receptores para estas hormonas son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as intracelular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El receptor citoplasmático unido a la hormona se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traslada al núcleo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celular y allí se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une al ADN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,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activando o inhibiendo la expresión de ciertos genes</a:t>
            </a:r>
            <a:r>
              <a:rPr b="0" lang="es-MX" sz="2400" spc="-1" strike="noStrike">
                <a:solidFill>
                  <a:srgbClr val="ffff00"/>
                </a:solidFill>
                <a:latin typeface="TimesNewRoman,Bold;TimesNewRoma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568760" y="3424320"/>
            <a:ext cx="45720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0"/>
            <a:ext cx="8915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762120"/>
            <a:ext cx="7704000" cy="531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EMEL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R ARTURO CUELLAR GAXIOLA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ORDINADOR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R. ARTURO MOYERS AREVALO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R.CARLOS ADRIAN PAREDES AGUIRRE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762120" y="0"/>
            <a:ext cx="7696080" cy="69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jemplos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TEICINASAS  DE TIROSINA-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fosforilan residuos de serina o treonina entre ellos están los específicos de insulina, factor de crecimiento epidérmico, factor de crecimiento derivado de plaquetas y algunas linfocina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1676520" y="1371600"/>
            <a:ext cx="372960" cy="380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2133720" y="1447920"/>
            <a:ext cx="372960" cy="380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5105520" y="1295280"/>
            <a:ext cx="372960" cy="381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5562720" y="1295280"/>
            <a:ext cx="37296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14400" y="494496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PROTEICINASAS DE SERINA/TREONINA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: destacan las isoformas de receptores para el factor beta transformador de crecimiento, estos receptores se ensamblan a partir de dominios que se distinguen en la membrana plasmatica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09480" y="4032360"/>
            <a:ext cx="79250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Otra familia de receptores que son funcionalmente proteicinasas, no tienen los dominios enzimáticos intracelulares, si no que en respuesta a los agonistas se ligan o activan a proteicinasas citosólicas independientes. Como ejemplo se encuentran 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LOS PEPTIDOS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en los receptores antigenicos de  los linfocitos T y B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33520" y="762120"/>
            <a:ext cx="8229600" cy="38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C) RECEPTORES ACOPLADOS A PROTEINAS G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uchos receptores en la membrana plasmatica regulan diferentes proteínas efectoras  por mediación de un grupo de proteínas ligadas a  guanin trifosfato (GTP), las llamadas proteínas G.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09480" y="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Clasificación  de la proteína G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066680" y="2514600"/>
            <a:ext cx="739152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057400" y="16002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Times New Roman"/>
              </a:rPr>
              <a:t>SISTEMA DE RECEPTORES ACOPLADOS A PROTEINAS G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51460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ecff"/>
                </a:solidFill>
                <a:latin typeface="Times New Roman"/>
              </a:rPr>
              <a:t>SUPERFICIE CELULAR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1219320" y="2666880"/>
            <a:ext cx="2286000" cy="390600"/>
          </a:xfrm>
          <a:prstGeom prst="rect">
            <a:avLst/>
          </a:prstGeom>
          <a:ln w="6480">
            <a:solidFill>
              <a:srgbClr val="ccecff"/>
            </a:solidFill>
            <a:prstDash val="lgDashDotDot"/>
            <a:miter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6477120" y="2133720"/>
            <a:ext cx="1038240" cy="1447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24852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Times New Roman"/>
              </a:rPr>
              <a:t>EFECTOR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3581280" y="2819520"/>
            <a:ext cx="777960" cy="1477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4343400" y="2743200"/>
            <a:ext cx="914400" cy="15238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505320" y="3581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ALF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46600" y="3048120"/>
            <a:ext cx="18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GAM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91320" y="4191120"/>
            <a:ext cx="33526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ADENILCICLASA  (Ca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ADENILCICLASA  (K)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FOSFOLIPAS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INTERCAMBIO DE Na+/H+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GMP FOSFODIESTERAS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ADENILILCICLAS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3962520" y="2819520"/>
            <a:ext cx="914400" cy="1523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343400" y="3048120"/>
            <a:ext cx="18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BET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9"/>
          <a:stretch/>
        </p:blipFill>
        <p:spPr>
          <a:xfrm>
            <a:off x="3886200" y="4419720"/>
            <a:ext cx="1447920" cy="752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505320" y="5105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GTP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51814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GDP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581280"/>
            <a:ext cx="365760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DEFINIDAS POR LA</a:t>
            </a: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COMPOSICION SUBUNIDAD ALF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LFA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LFAi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LFA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LFAq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LFA13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LFA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LFAolf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43600" y="3954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0000"/>
                </a:solidFill>
                <a:latin typeface="Times New Roman"/>
              </a:rPr>
              <a:t>REGULADAS POR SUBUNIDAD ALF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28600"/>
            <a:ext cx="342900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FECTORES REGULADOS POR SUBUNIDAD BETA Y GAMA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CORRIENTES DE K OPERADAS POR RECEPTOR ADENILCICLAS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FOSFOLIPAS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pic>
        <p:nvPicPr>
          <p:cNvPr id="256" name="15_23X" descr=""/>
          <p:cNvPicPr/>
          <p:nvPr/>
        </p:nvPicPr>
        <p:blipFill>
          <a:blip r:embed="rId3"/>
          <a:stretch/>
        </p:blipFill>
        <p:spPr>
          <a:xfrm>
            <a:off x="45720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62120" y="2057400"/>
            <a:ext cx="7619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La unión de GTP activa la proteína G  que a su vez regula la actividad de efectores específicos y estos incluyen enzimas (adenilciclasa, fosfolipasa A2 C y D; canales que son específicos para iones de Ca, Na, K y algunas proteínas de transport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676520" y="2362320"/>
            <a:ext cx="58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D) CANALES DE CALCIO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COMO RECEPTOR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143000" y="1371600"/>
            <a:ext cx="7391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9144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ALCIO 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En algunos casos, el receptor es un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CANAL DE CALCIO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, que permite la entrada de calcio desde el exterio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En otros casos, el receptor activa un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A G,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ésta activa a l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fosfolipasa C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, la cual produce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inositol trifosfato (IP3),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y éste a su vez estimula la liberación de calcio desde los depósitos intracelulares del retículo endoplasmático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El calcio se une a la proteín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calmodulina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, la cual activa un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 kinasa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que fosforila otras proteínas,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MODIFICANDO SU ACTIVIDAD Y PRODUCIENDO FINALMENTE EL EFECTO CELULAR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4" name="15_14" descr=""/>
          <p:cNvPicPr/>
          <p:nvPr/>
        </p:nvPicPr>
        <p:blipFill>
          <a:blip r:embed="rId3"/>
          <a:stretch/>
        </p:blipFill>
        <p:spPr>
          <a:xfrm>
            <a:off x="0" y="3657600"/>
            <a:ext cx="914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0" y="0"/>
            <a:ext cx="891540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cc"/>
                </a:solidFill>
                <a:latin typeface="Times New Roman"/>
              </a:rPr>
              <a:t>RECEPTOR</a:t>
            </a:r>
            <a:r>
              <a:rPr b="1" i="1" lang="es-ES_tradnl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Este termino se</a:t>
            </a:r>
            <a:r>
              <a:rPr b="1" i="1" lang="es-ES_tradnl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a aplicado en forma</a:t>
            </a:r>
            <a:r>
              <a:rPr b="1" i="1" lang="es-ES_tradnl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practica  para denotar cualquier macromolécula celular con la cual se liga un fármaco para iniciar sus efectos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666880"/>
            <a:ext cx="6770520" cy="2133720"/>
          </a:xfrm>
          <a:custGeom>
            <a:avLst/>
            <a:gdLst/>
            <a:ahLst/>
            <a:rect l="l" t="t" r="r" b="b"/>
            <a:pathLst>
              <a:path w="4265" h="1475">
                <a:moveTo>
                  <a:pt x="4265" y="747"/>
                </a:moveTo>
                <a:lnTo>
                  <a:pt x="4265" y="737"/>
                </a:lnTo>
                <a:lnTo>
                  <a:pt x="4263" y="700"/>
                </a:lnTo>
                <a:lnTo>
                  <a:pt x="4255" y="664"/>
                </a:lnTo>
                <a:lnTo>
                  <a:pt x="4242" y="629"/>
                </a:lnTo>
                <a:lnTo>
                  <a:pt x="4225" y="593"/>
                </a:lnTo>
                <a:lnTo>
                  <a:pt x="4201" y="558"/>
                </a:lnTo>
                <a:lnTo>
                  <a:pt x="4176" y="524"/>
                </a:lnTo>
                <a:lnTo>
                  <a:pt x="4144" y="490"/>
                </a:lnTo>
                <a:lnTo>
                  <a:pt x="4107" y="458"/>
                </a:lnTo>
                <a:lnTo>
                  <a:pt x="4067" y="426"/>
                </a:lnTo>
                <a:lnTo>
                  <a:pt x="4022" y="395"/>
                </a:lnTo>
                <a:lnTo>
                  <a:pt x="3975" y="365"/>
                </a:lnTo>
                <a:lnTo>
                  <a:pt x="3922" y="336"/>
                </a:lnTo>
                <a:lnTo>
                  <a:pt x="3866" y="308"/>
                </a:lnTo>
                <a:lnTo>
                  <a:pt x="3806" y="279"/>
                </a:lnTo>
                <a:lnTo>
                  <a:pt x="3742" y="253"/>
                </a:lnTo>
                <a:lnTo>
                  <a:pt x="3676" y="228"/>
                </a:lnTo>
                <a:lnTo>
                  <a:pt x="3606" y="204"/>
                </a:lnTo>
                <a:lnTo>
                  <a:pt x="3533" y="181"/>
                </a:lnTo>
                <a:lnTo>
                  <a:pt x="3456" y="159"/>
                </a:lnTo>
                <a:lnTo>
                  <a:pt x="3377" y="139"/>
                </a:lnTo>
                <a:lnTo>
                  <a:pt x="3294" y="118"/>
                </a:lnTo>
                <a:lnTo>
                  <a:pt x="3209" y="100"/>
                </a:lnTo>
                <a:lnTo>
                  <a:pt x="3121" y="84"/>
                </a:lnTo>
                <a:lnTo>
                  <a:pt x="3031" y="68"/>
                </a:lnTo>
                <a:lnTo>
                  <a:pt x="2940" y="54"/>
                </a:lnTo>
                <a:lnTo>
                  <a:pt x="2846" y="42"/>
                </a:lnTo>
                <a:lnTo>
                  <a:pt x="2750" y="30"/>
                </a:lnTo>
                <a:lnTo>
                  <a:pt x="2549" y="14"/>
                </a:lnTo>
                <a:lnTo>
                  <a:pt x="2449" y="8"/>
                </a:lnTo>
                <a:lnTo>
                  <a:pt x="2344" y="3"/>
                </a:lnTo>
                <a:lnTo>
                  <a:pt x="2239" y="2"/>
                </a:lnTo>
                <a:lnTo>
                  <a:pt x="2133" y="0"/>
                </a:lnTo>
                <a:lnTo>
                  <a:pt x="2026" y="2"/>
                </a:lnTo>
                <a:lnTo>
                  <a:pt x="1921" y="3"/>
                </a:lnTo>
                <a:lnTo>
                  <a:pt x="1817" y="8"/>
                </a:lnTo>
                <a:lnTo>
                  <a:pt x="1714" y="14"/>
                </a:lnTo>
                <a:lnTo>
                  <a:pt x="1614" y="22"/>
                </a:lnTo>
                <a:lnTo>
                  <a:pt x="1516" y="30"/>
                </a:lnTo>
                <a:lnTo>
                  <a:pt x="1420" y="42"/>
                </a:lnTo>
                <a:lnTo>
                  <a:pt x="1326" y="54"/>
                </a:lnTo>
                <a:lnTo>
                  <a:pt x="1232" y="68"/>
                </a:lnTo>
                <a:lnTo>
                  <a:pt x="1142" y="83"/>
                </a:lnTo>
                <a:lnTo>
                  <a:pt x="1055" y="100"/>
                </a:lnTo>
                <a:lnTo>
                  <a:pt x="888" y="137"/>
                </a:lnTo>
                <a:lnTo>
                  <a:pt x="809" y="159"/>
                </a:lnTo>
                <a:lnTo>
                  <a:pt x="732" y="179"/>
                </a:lnTo>
                <a:lnTo>
                  <a:pt x="660" y="203"/>
                </a:lnTo>
                <a:lnTo>
                  <a:pt x="589" y="226"/>
                </a:lnTo>
                <a:lnTo>
                  <a:pt x="523" y="252"/>
                </a:lnTo>
                <a:lnTo>
                  <a:pt x="459" y="279"/>
                </a:lnTo>
                <a:lnTo>
                  <a:pt x="399" y="306"/>
                </a:lnTo>
                <a:lnTo>
                  <a:pt x="344" y="335"/>
                </a:lnTo>
                <a:lnTo>
                  <a:pt x="292" y="363"/>
                </a:lnTo>
                <a:lnTo>
                  <a:pt x="243" y="394"/>
                </a:lnTo>
                <a:lnTo>
                  <a:pt x="198" y="424"/>
                </a:lnTo>
                <a:lnTo>
                  <a:pt x="158" y="456"/>
                </a:lnTo>
                <a:lnTo>
                  <a:pt x="122" y="488"/>
                </a:lnTo>
                <a:lnTo>
                  <a:pt x="92" y="522"/>
                </a:lnTo>
                <a:lnTo>
                  <a:pt x="64" y="556"/>
                </a:lnTo>
                <a:lnTo>
                  <a:pt x="40" y="591"/>
                </a:lnTo>
                <a:lnTo>
                  <a:pt x="23" y="627"/>
                </a:lnTo>
                <a:lnTo>
                  <a:pt x="11" y="662"/>
                </a:lnTo>
                <a:lnTo>
                  <a:pt x="2" y="698"/>
                </a:lnTo>
                <a:lnTo>
                  <a:pt x="0" y="735"/>
                </a:lnTo>
                <a:lnTo>
                  <a:pt x="0" y="1463"/>
                </a:lnTo>
                <a:lnTo>
                  <a:pt x="2" y="1426"/>
                </a:lnTo>
                <a:lnTo>
                  <a:pt x="11" y="1391"/>
                </a:lnTo>
                <a:lnTo>
                  <a:pt x="23" y="1355"/>
                </a:lnTo>
                <a:lnTo>
                  <a:pt x="40" y="1320"/>
                </a:lnTo>
                <a:lnTo>
                  <a:pt x="64" y="1284"/>
                </a:lnTo>
                <a:lnTo>
                  <a:pt x="92" y="1250"/>
                </a:lnTo>
                <a:lnTo>
                  <a:pt x="122" y="1217"/>
                </a:lnTo>
                <a:lnTo>
                  <a:pt x="158" y="1184"/>
                </a:lnTo>
                <a:lnTo>
                  <a:pt x="198" y="1152"/>
                </a:lnTo>
                <a:lnTo>
                  <a:pt x="243" y="1122"/>
                </a:lnTo>
                <a:lnTo>
                  <a:pt x="292" y="1092"/>
                </a:lnTo>
                <a:lnTo>
                  <a:pt x="344" y="1063"/>
                </a:lnTo>
                <a:lnTo>
                  <a:pt x="399" y="1034"/>
                </a:lnTo>
                <a:lnTo>
                  <a:pt x="459" y="1007"/>
                </a:lnTo>
                <a:lnTo>
                  <a:pt x="523" y="980"/>
                </a:lnTo>
                <a:lnTo>
                  <a:pt x="589" y="955"/>
                </a:lnTo>
                <a:lnTo>
                  <a:pt x="660" y="931"/>
                </a:lnTo>
                <a:lnTo>
                  <a:pt x="732" y="907"/>
                </a:lnTo>
                <a:lnTo>
                  <a:pt x="809" y="887"/>
                </a:lnTo>
                <a:lnTo>
                  <a:pt x="888" y="865"/>
                </a:lnTo>
                <a:lnTo>
                  <a:pt x="1055" y="828"/>
                </a:lnTo>
                <a:lnTo>
                  <a:pt x="1142" y="811"/>
                </a:lnTo>
                <a:lnTo>
                  <a:pt x="1232" y="796"/>
                </a:lnTo>
                <a:lnTo>
                  <a:pt x="1326" y="782"/>
                </a:lnTo>
                <a:lnTo>
                  <a:pt x="1420" y="771"/>
                </a:lnTo>
                <a:lnTo>
                  <a:pt x="1516" y="759"/>
                </a:lnTo>
                <a:lnTo>
                  <a:pt x="1614" y="750"/>
                </a:lnTo>
                <a:lnTo>
                  <a:pt x="1714" y="742"/>
                </a:lnTo>
                <a:lnTo>
                  <a:pt x="1817" y="737"/>
                </a:lnTo>
                <a:lnTo>
                  <a:pt x="1921" y="732"/>
                </a:lnTo>
                <a:lnTo>
                  <a:pt x="2026" y="730"/>
                </a:lnTo>
                <a:lnTo>
                  <a:pt x="2133" y="728"/>
                </a:lnTo>
                <a:lnTo>
                  <a:pt x="2239" y="730"/>
                </a:lnTo>
                <a:lnTo>
                  <a:pt x="2344" y="732"/>
                </a:lnTo>
                <a:lnTo>
                  <a:pt x="2449" y="737"/>
                </a:lnTo>
                <a:lnTo>
                  <a:pt x="2549" y="742"/>
                </a:lnTo>
                <a:lnTo>
                  <a:pt x="2750" y="759"/>
                </a:lnTo>
                <a:lnTo>
                  <a:pt x="2846" y="771"/>
                </a:lnTo>
                <a:lnTo>
                  <a:pt x="2940" y="782"/>
                </a:lnTo>
                <a:lnTo>
                  <a:pt x="3031" y="796"/>
                </a:lnTo>
                <a:lnTo>
                  <a:pt x="3121" y="813"/>
                </a:lnTo>
                <a:lnTo>
                  <a:pt x="3209" y="828"/>
                </a:lnTo>
                <a:lnTo>
                  <a:pt x="3294" y="847"/>
                </a:lnTo>
                <a:lnTo>
                  <a:pt x="3377" y="867"/>
                </a:lnTo>
                <a:lnTo>
                  <a:pt x="3456" y="887"/>
                </a:lnTo>
                <a:lnTo>
                  <a:pt x="3533" y="909"/>
                </a:lnTo>
                <a:lnTo>
                  <a:pt x="3606" y="933"/>
                </a:lnTo>
                <a:lnTo>
                  <a:pt x="3676" y="956"/>
                </a:lnTo>
                <a:lnTo>
                  <a:pt x="3742" y="982"/>
                </a:lnTo>
                <a:lnTo>
                  <a:pt x="3806" y="1007"/>
                </a:lnTo>
                <a:lnTo>
                  <a:pt x="3866" y="1036"/>
                </a:lnTo>
                <a:lnTo>
                  <a:pt x="3922" y="1065"/>
                </a:lnTo>
                <a:lnTo>
                  <a:pt x="3975" y="1093"/>
                </a:lnTo>
                <a:lnTo>
                  <a:pt x="4022" y="1124"/>
                </a:lnTo>
                <a:lnTo>
                  <a:pt x="4067" y="1154"/>
                </a:lnTo>
                <a:lnTo>
                  <a:pt x="4107" y="1186"/>
                </a:lnTo>
                <a:lnTo>
                  <a:pt x="4144" y="1218"/>
                </a:lnTo>
                <a:lnTo>
                  <a:pt x="4176" y="1252"/>
                </a:lnTo>
                <a:lnTo>
                  <a:pt x="4201" y="1286"/>
                </a:lnTo>
                <a:lnTo>
                  <a:pt x="4225" y="1321"/>
                </a:lnTo>
                <a:lnTo>
                  <a:pt x="4242" y="1357"/>
                </a:lnTo>
                <a:lnTo>
                  <a:pt x="4255" y="1392"/>
                </a:lnTo>
                <a:lnTo>
                  <a:pt x="4263" y="1428"/>
                </a:lnTo>
                <a:lnTo>
                  <a:pt x="4265" y="1465"/>
                </a:lnTo>
                <a:lnTo>
                  <a:pt x="4265" y="1475"/>
                </a:lnTo>
                <a:lnTo>
                  <a:pt x="4265" y="74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7760" y="4114800"/>
            <a:ext cx="2896920" cy="2286000"/>
          </a:xfrm>
          <a:custGeom>
            <a:avLst/>
            <a:gdLst/>
            <a:ahLst/>
            <a:rect l="l" t="t" r="r" b="b"/>
            <a:pathLst>
              <a:path w="1825" h="1483">
                <a:moveTo>
                  <a:pt x="1825" y="728"/>
                </a:moveTo>
                <a:lnTo>
                  <a:pt x="1825" y="737"/>
                </a:lnTo>
                <a:lnTo>
                  <a:pt x="1823" y="770"/>
                </a:lnTo>
                <a:lnTo>
                  <a:pt x="1816" y="804"/>
                </a:lnTo>
                <a:lnTo>
                  <a:pt x="1806" y="836"/>
                </a:lnTo>
                <a:lnTo>
                  <a:pt x="1793" y="870"/>
                </a:lnTo>
                <a:lnTo>
                  <a:pt x="1774" y="902"/>
                </a:lnTo>
                <a:lnTo>
                  <a:pt x="1752" y="934"/>
                </a:lnTo>
                <a:lnTo>
                  <a:pt x="1727" y="965"/>
                </a:lnTo>
                <a:lnTo>
                  <a:pt x="1697" y="995"/>
                </a:lnTo>
                <a:lnTo>
                  <a:pt x="1663" y="1025"/>
                </a:lnTo>
                <a:lnTo>
                  <a:pt x="1626" y="1054"/>
                </a:lnTo>
                <a:lnTo>
                  <a:pt x="1588" y="1083"/>
                </a:lnTo>
                <a:lnTo>
                  <a:pt x="1543" y="1112"/>
                </a:lnTo>
                <a:lnTo>
                  <a:pt x="1498" y="1139"/>
                </a:lnTo>
                <a:lnTo>
                  <a:pt x="1447" y="1166"/>
                </a:lnTo>
                <a:lnTo>
                  <a:pt x="1396" y="1191"/>
                </a:lnTo>
                <a:lnTo>
                  <a:pt x="1340" y="1216"/>
                </a:lnTo>
                <a:lnTo>
                  <a:pt x="1281" y="1242"/>
                </a:lnTo>
                <a:lnTo>
                  <a:pt x="1219" y="1264"/>
                </a:lnTo>
                <a:lnTo>
                  <a:pt x="1155" y="1287"/>
                </a:lnTo>
                <a:lnTo>
                  <a:pt x="1088" y="1308"/>
                </a:lnTo>
                <a:lnTo>
                  <a:pt x="948" y="1348"/>
                </a:lnTo>
                <a:lnTo>
                  <a:pt x="873" y="1367"/>
                </a:lnTo>
                <a:lnTo>
                  <a:pt x="796" y="1384"/>
                </a:lnTo>
                <a:lnTo>
                  <a:pt x="717" y="1399"/>
                </a:lnTo>
                <a:lnTo>
                  <a:pt x="636" y="1414"/>
                </a:lnTo>
                <a:lnTo>
                  <a:pt x="553" y="1428"/>
                </a:lnTo>
                <a:lnTo>
                  <a:pt x="467" y="1441"/>
                </a:lnTo>
                <a:lnTo>
                  <a:pt x="292" y="1461"/>
                </a:lnTo>
                <a:lnTo>
                  <a:pt x="109" y="1478"/>
                </a:lnTo>
                <a:lnTo>
                  <a:pt x="15" y="1483"/>
                </a:lnTo>
                <a:lnTo>
                  <a:pt x="384" y="1122"/>
                </a:lnTo>
                <a:lnTo>
                  <a:pt x="0" y="755"/>
                </a:lnTo>
                <a:lnTo>
                  <a:pt x="94" y="750"/>
                </a:lnTo>
                <a:lnTo>
                  <a:pt x="277" y="733"/>
                </a:lnTo>
                <a:lnTo>
                  <a:pt x="452" y="713"/>
                </a:lnTo>
                <a:lnTo>
                  <a:pt x="538" y="699"/>
                </a:lnTo>
                <a:lnTo>
                  <a:pt x="621" y="686"/>
                </a:lnTo>
                <a:lnTo>
                  <a:pt x="702" y="671"/>
                </a:lnTo>
                <a:lnTo>
                  <a:pt x="781" y="655"/>
                </a:lnTo>
                <a:lnTo>
                  <a:pt x="858" y="639"/>
                </a:lnTo>
                <a:lnTo>
                  <a:pt x="933" y="620"/>
                </a:lnTo>
                <a:lnTo>
                  <a:pt x="1074" y="579"/>
                </a:lnTo>
                <a:lnTo>
                  <a:pt x="1140" y="559"/>
                </a:lnTo>
                <a:lnTo>
                  <a:pt x="1204" y="535"/>
                </a:lnTo>
                <a:lnTo>
                  <a:pt x="1266" y="514"/>
                </a:lnTo>
                <a:lnTo>
                  <a:pt x="1325" y="488"/>
                </a:lnTo>
                <a:lnTo>
                  <a:pt x="1381" y="463"/>
                </a:lnTo>
                <a:lnTo>
                  <a:pt x="1432" y="437"/>
                </a:lnTo>
                <a:lnTo>
                  <a:pt x="1483" y="410"/>
                </a:lnTo>
                <a:lnTo>
                  <a:pt x="1528" y="383"/>
                </a:lnTo>
                <a:lnTo>
                  <a:pt x="1573" y="355"/>
                </a:lnTo>
                <a:lnTo>
                  <a:pt x="1612" y="326"/>
                </a:lnTo>
                <a:lnTo>
                  <a:pt x="1648" y="297"/>
                </a:lnTo>
                <a:lnTo>
                  <a:pt x="1682" y="267"/>
                </a:lnTo>
                <a:lnTo>
                  <a:pt x="1712" y="236"/>
                </a:lnTo>
                <a:lnTo>
                  <a:pt x="1737" y="206"/>
                </a:lnTo>
                <a:lnTo>
                  <a:pt x="1759" y="174"/>
                </a:lnTo>
                <a:lnTo>
                  <a:pt x="1778" y="142"/>
                </a:lnTo>
                <a:lnTo>
                  <a:pt x="1791" y="108"/>
                </a:lnTo>
                <a:lnTo>
                  <a:pt x="1802" y="76"/>
                </a:lnTo>
                <a:lnTo>
                  <a:pt x="1808" y="42"/>
                </a:lnTo>
                <a:lnTo>
                  <a:pt x="1810" y="8"/>
                </a:lnTo>
                <a:lnTo>
                  <a:pt x="1810" y="0"/>
                </a:lnTo>
                <a:lnTo>
                  <a:pt x="1802" y="0"/>
                </a:lnTo>
                <a:lnTo>
                  <a:pt x="1816" y="728"/>
                </a:lnTo>
                <a:lnTo>
                  <a:pt x="1825" y="7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343400"/>
            <a:ext cx="3538440" cy="2514600"/>
          </a:xfrm>
          <a:custGeom>
            <a:avLst/>
            <a:gdLst/>
            <a:ahLst/>
            <a:rect l="l" t="t" r="r" b="b"/>
            <a:pathLst>
              <a:path w="2229" h="1860">
                <a:moveTo>
                  <a:pt x="1332" y="704"/>
                </a:moveTo>
                <a:lnTo>
                  <a:pt x="1332" y="292"/>
                </a:lnTo>
                <a:lnTo>
                  <a:pt x="2229" y="1144"/>
                </a:lnTo>
                <a:lnTo>
                  <a:pt x="1324" y="1860"/>
                </a:lnTo>
                <a:lnTo>
                  <a:pt x="1332" y="1451"/>
                </a:lnTo>
                <a:lnTo>
                  <a:pt x="1330" y="1454"/>
                </a:lnTo>
                <a:lnTo>
                  <a:pt x="1257" y="1444"/>
                </a:lnTo>
                <a:lnTo>
                  <a:pt x="1187" y="1433"/>
                </a:lnTo>
                <a:lnTo>
                  <a:pt x="1050" y="1405"/>
                </a:lnTo>
                <a:lnTo>
                  <a:pt x="984" y="1392"/>
                </a:lnTo>
                <a:lnTo>
                  <a:pt x="920" y="1377"/>
                </a:lnTo>
                <a:lnTo>
                  <a:pt x="858" y="1362"/>
                </a:lnTo>
                <a:lnTo>
                  <a:pt x="798" y="1345"/>
                </a:lnTo>
                <a:lnTo>
                  <a:pt x="741" y="1328"/>
                </a:lnTo>
                <a:lnTo>
                  <a:pt x="683" y="1309"/>
                </a:lnTo>
                <a:lnTo>
                  <a:pt x="628" y="1291"/>
                </a:lnTo>
                <a:lnTo>
                  <a:pt x="525" y="1253"/>
                </a:lnTo>
                <a:lnTo>
                  <a:pt x="476" y="1233"/>
                </a:lnTo>
                <a:lnTo>
                  <a:pt x="429" y="1211"/>
                </a:lnTo>
                <a:lnTo>
                  <a:pt x="344" y="1167"/>
                </a:lnTo>
                <a:lnTo>
                  <a:pt x="303" y="1145"/>
                </a:lnTo>
                <a:lnTo>
                  <a:pt x="265" y="1123"/>
                </a:lnTo>
                <a:lnTo>
                  <a:pt x="196" y="1076"/>
                </a:lnTo>
                <a:lnTo>
                  <a:pt x="167" y="1051"/>
                </a:lnTo>
                <a:lnTo>
                  <a:pt x="139" y="1027"/>
                </a:lnTo>
                <a:lnTo>
                  <a:pt x="113" y="1002"/>
                </a:lnTo>
                <a:lnTo>
                  <a:pt x="90" y="976"/>
                </a:lnTo>
                <a:lnTo>
                  <a:pt x="68" y="949"/>
                </a:lnTo>
                <a:lnTo>
                  <a:pt x="51" y="924"/>
                </a:lnTo>
                <a:lnTo>
                  <a:pt x="36" y="897"/>
                </a:lnTo>
                <a:lnTo>
                  <a:pt x="23" y="872"/>
                </a:lnTo>
                <a:lnTo>
                  <a:pt x="13" y="844"/>
                </a:lnTo>
                <a:lnTo>
                  <a:pt x="6" y="817"/>
                </a:lnTo>
                <a:lnTo>
                  <a:pt x="2" y="789"/>
                </a:lnTo>
                <a:lnTo>
                  <a:pt x="0" y="762"/>
                </a:lnTo>
                <a:lnTo>
                  <a:pt x="0" y="745"/>
                </a:lnTo>
                <a:lnTo>
                  <a:pt x="4" y="767"/>
                </a:lnTo>
                <a:lnTo>
                  <a:pt x="4" y="3"/>
                </a:lnTo>
                <a:lnTo>
                  <a:pt x="0" y="0"/>
                </a:lnTo>
                <a:lnTo>
                  <a:pt x="0" y="15"/>
                </a:lnTo>
                <a:lnTo>
                  <a:pt x="2" y="42"/>
                </a:lnTo>
                <a:lnTo>
                  <a:pt x="6" y="71"/>
                </a:lnTo>
                <a:lnTo>
                  <a:pt x="13" y="98"/>
                </a:lnTo>
                <a:lnTo>
                  <a:pt x="23" y="125"/>
                </a:lnTo>
                <a:lnTo>
                  <a:pt x="36" y="150"/>
                </a:lnTo>
                <a:lnTo>
                  <a:pt x="51" y="177"/>
                </a:lnTo>
                <a:lnTo>
                  <a:pt x="68" y="202"/>
                </a:lnTo>
                <a:lnTo>
                  <a:pt x="90" y="229"/>
                </a:lnTo>
                <a:lnTo>
                  <a:pt x="113" y="255"/>
                </a:lnTo>
                <a:lnTo>
                  <a:pt x="139" y="280"/>
                </a:lnTo>
                <a:lnTo>
                  <a:pt x="167" y="304"/>
                </a:lnTo>
                <a:lnTo>
                  <a:pt x="196" y="329"/>
                </a:lnTo>
                <a:lnTo>
                  <a:pt x="265" y="376"/>
                </a:lnTo>
                <a:lnTo>
                  <a:pt x="303" y="398"/>
                </a:lnTo>
                <a:lnTo>
                  <a:pt x="344" y="420"/>
                </a:lnTo>
                <a:lnTo>
                  <a:pt x="429" y="464"/>
                </a:lnTo>
                <a:lnTo>
                  <a:pt x="476" y="486"/>
                </a:lnTo>
                <a:lnTo>
                  <a:pt x="525" y="507"/>
                </a:lnTo>
                <a:lnTo>
                  <a:pt x="628" y="544"/>
                </a:lnTo>
                <a:lnTo>
                  <a:pt x="683" y="562"/>
                </a:lnTo>
                <a:lnTo>
                  <a:pt x="741" y="581"/>
                </a:lnTo>
                <a:lnTo>
                  <a:pt x="798" y="598"/>
                </a:lnTo>
                <a:lnTo>
                  <a:pt x="858" y="615"/>
                </a:lnTo>
                <a:lnTo>
                  <a:pt x="920" y="630"/>
                </a:lnTo>
                <a:lnTo>
                  <a:pt x="984" y="645"/>
                </a:lnTo>
                <a:lnTo>
                  <a:pt x="1050" y="659"/>
                </a:lnTo>
                <a:lnTo>
                  <a:pt x="1187" y="686"/>
                </a:lnTo>
                <a:lnTo>
                  <a:pt x="1257" y="697"/>
                </a:lnTo>
                <a:lnTo>
                  <a:pt x="1330" y="708"/>
                </a:lnTo>
                <a:lnTo>
                  <a:pt x="1332" y="704"/>
                </a:lnTo>
                <a:lnTo>
                  <a:pt x="1332" y="292"/>
                </a:lnTo>
                <a:lnTo>
                  <a:pt x="1332" y="7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2286000" y="3581280"/>
            <a:ext cx="2133720" cy="13716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38680" y="38862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eptor Fisiológic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3429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Times New Roman"/>
              </a:rPr>
              <a:t>Fármac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5486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Times New Roman"/>
              </a:rPr>
              <a:t>Interacció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51814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00"/>
                </a:solidFill>
                <a:latin typeface="Times New Roman"/>
              </a:rPr>
              <a:t>Unión ligand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495680" y="3657600"/>
            <a:ext cx="13431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380880" y="-228600"/>
            <a:ext cx="10439280" cy="7696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371600" y="1143000"/>
            <a:ext cx="70120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FARMACODINAMI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OR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ARLOS ADRIAN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PAREDES AGUIRRE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0"/>
            <a:ext cx="9144000" cy="67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FUNCIONES DE LOS RECEPTOR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-unirse a ligandos y propagar un mensaje- esto nos habla de la existencia de dominios funcionales dentro del receptor: </a:t>
            </a:r>
            <a:r>
              <a:rPr b="1" i="1" lang="es-ES_tradnl" sz="2800" spc="-1" strike="noStrike">
                <a:solidFill>
                  <a:srgbClr val="ccecff"/>
                </a:solidFill>
                <a:latin typeface="Times New Roman"/>
              </a:rPr>
              <a:t>un dominio de unión con ligando</a:t>
            </a: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 y otro </a:t>
            </a:r>
            <a:r>
              <a:rPr b="1" i="1" lang="es-ES_tradnl" sz="2800" spc="-1" strike="noStrike">
                <a:solidFill>
                  <a:srgbClr val="ccecff"/>
                </a:solidFill>
                <a:latin typeface="Times New Roman"/>
              </a:rPr>
              <a:t>dominio efecto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2286000" y="2209680"/>
            <a:ext cx="1676520" cy="15242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1676520" y="251460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2971800" y="251460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2438280" y="3048120"/>
            <a:ext cx="352440" cy="352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1828800" y="3200400"/>
            <a:ext cx="352440" cy="3524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10920" y="3774960"/>
            <a:ext cx="16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DOMINI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EFEC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5257800" y="2209680"/>
            <a:ext cx="990720" cy="152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4114800" y="38098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DOMINIO DE UNIO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2819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00"/>
                </a:solidFill>
                <a:latin typeface="Times New Roman"/>
              </a:rPr>
              <a:t>RECEPTOR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3716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PROPAGAR MENSAJ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2590920" y="1676520"/>
            <a:ext cx="4332240" cy="35607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14600" y="3049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Dominio funciona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Times New Roman"/>
              </a:rPr>
              <a:t>efecto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533412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Dominio de unió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con ligand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1280" y="31240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RECEPT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imes New Roman"/>
              </a:rPr>
              <a:t>ESQUEMA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450720" y="304920"/>
            <a:ext cx="815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De cada familia de receptores se tienen conocimientos acerca de las estructuras de los dominios de unión con ligandos y de los dominios efectores, así como de la forma en que la unión con agonistas influye en la actividad reguladora del receptor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98440" y="3809880"/>
          <a:ext cx="3733920" cy="23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298440" y="3809880"/>
                    <a:ext cx="3733920" cy="232092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184640" y="495288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5632560" y="3962520"/>
          <a:ext cx="350496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2560" y="3962520"/>
                    <a:ext cx="3504960" cy="22096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1523880" y="0"/>
            <a:ext cx="6782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La función de tales receptores fisiológicos consiste en la unión ligando apropiado y la consecuente propagación de su señal reguladora en la célula blanc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52480" y="4572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Unión ligand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4800600" y="3505320"/>
            <a:ext cx="1828800" cy="19047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876920" y="48006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ecff"/>
                </a:solidFill>
                <a:latin typeface="Times New Roman"/>
              </a:rPr>
              <a:t>Propagación de señal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67480" y="32004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élula blanc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2362320" y="3581280"/>
            <a:ext cx="952560" cy="9334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6"/>
          <a:stretch/>
        </p:blipFill>
        <p:spPr>
          <a:xfrm>
            <a:off x="380880" y="2438280"/>
            <a:ext cx="943200" cy="1276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80880" y="640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8153280" y="3809880"/>
            <a:ext cx="959040" cy="13827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8077320" y="5410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Efect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8"/>
          <a:stretch/>
        </p:blipFill>
        <p:spPr>
          <a:xfrm>
            <a:off x="3581280" y="4114800"/>
            <a:ext cx="116208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9"/>
          <a:stretch/>
        </p:blipFill>
        <p:spPr>
          <a:xfrm>
            <a:off x="6705720" y="4114800"/>
            <a:ext cx="1162080" cy="6094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10"/>
          <a:stretch/>
        </p:blipFill>
        <p:spPr>
          <a:xfrm>
            <a:off x="609480" y="3809880"/>
            <a:ext cx="392400" cy="8683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11"/>
          <a:stretch/>
        </p:blipFill>
        <p:spPr>
          <a:xfrm>
            <a:off x="990720" y="4114800"/>
            <a:ext cx="1162080" cy="6094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12"/>
          <a:stretch/>
        </p:blipFill>
        <p:spPr>
          <a:xfrm>
            <a:off x="609480" y="5257800"/>
            <a:ext cx="777960" cy="10206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28600" y="2125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FARMAC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14400" y="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OTROS ACTORES NECESARIO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1066680"/>
            <a:ext cx="4724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Los efectos de un regulador pueden ejercerse en forma directa en sus objetivos celulares, es decir que la proteína o las proteínas efectoras pueden ser transmitidas a blancos celulares por moléculas intermediarias que son los </a:t>
            </a:r>
            <a:r>
              <a:rPr b="1" i="1" lang="es-ES_tradnl" sz="3200" spc="-1" strike="noStrike">
                <a:solidFill>
                  <a:srgbClr val="ccecff"/>
                </a:solidFill>
                <a:latin typeface="Times New Roman"/>
              </a:rPr>
              <a:t>transductores</a:t>
            </a:r>
            <a:r>
              <a:rPr b="1" i="1" lang="es-ES_tradnl" sz="2400" spc="-1" strike="noStrike">
                <a:solidFill>
                  <a:srgbClr val="ccecff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609480" y="2133720"/>
            <a:ext cx="3810240" cy="47242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981440" y="2590920"/>
            <a:ext cx="194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MOLECUL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INTERMEDIARI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510552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Times New Roman"/>
              </a:rPr>
              <a:t>CELUL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00"/>
                </a:solidFill>
                <a:latin typeface="Times New Roman"/>
              </a:rPr>
              <a:t>BLAN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3886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TRANSDUCTO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990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TRANSDUCTOR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04920" y="4572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SEGUNDOS MENSAJEROS CITOPLÁSMICO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43000" y="1424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"/>
              </a:rPr>
              <a:t>Mecanismos de transducción de los receptores</a:t>
            </a:r>
            <a:r>
              <a:rPr b="1" lang="es-MX" sz="2400" spc="-1" strike="noStrike">
                <a:solidFill>
                  <a:srgbClr val="e70026"/>
                </a:solidFill>
                <a:latin typeface="TimesNewRoman,Bold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2567160"/>
            <a:ext cx="53337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MP cícli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El receptor activa un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a G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La proteína G activa una adenil ciclasa, que produce AMP cíclico a partir de AT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El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AMP cíclico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se une y activa una proteín kinasa, denominad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 kinasa A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L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 kinasa A fosforila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otras proteínas y modifica su activida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6858000" y="2414520"/>
            <a:ext cx="1905120" cy="4267440"/>
            <a:chOff x="6858000" y="2414520"/>
            <a:chExt cx="1905120" cy="4267440"/>
          </a:xfrm>
        </p:grpSpPr>
        <p:sp>
          <p:nvSpPr>
            <p:cNvPr id="334" name=""/>
            <p:cNvSpPr/>
            <p:nvPr/>
          </p:nvSpPr>
          <p:spPr>
            <a:xfrm>
              <a:off x="6858000" y="3100320"/>
              <a:ext cx="1905120" cy="152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7353360" y="2757600"/>
              <a:ext cx="990720" cy="76176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ec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43800" y="2414520"/>
              <a:ext cx="685800" cy="304920"/>
            </a:xfrm>
            <a:prstGeom prst="flowChartMerge">
              <a:avLst/>
            </a:prstGeom>
            <a:solidFill>
              <a:srgbClr val="ff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620120" y="3710160"/>
              <a:ext cx="457200" cy="91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5919840"/>
              <a:ext cx="990720" cy="762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Times New Roman"/>
                </a:rPr>
                <a:t>cAMP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20120" y="4776840"/>
              <a:ext cx="457200" cy="91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7260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609480" y="0"/>
            <a:ext cx="8001000" cy="69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ISTEMA DE RECEPTOR-EFECTOR O VIA DE TRANSDUCCION DE SEÑALES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s el conjunto </a:t>
            </a: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de receptor, su blanco o sitio celular y cualesquiera moléculas intermediaria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s importante saber que en ocasiones la proteína efectora puede sintetizar otro metabolito o molécula señalizadora llamada </a:t>
            </a: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segundo mensajero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FARMA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05120" y="39546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PROTEIN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RECEPTOR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629400" y="2286000"/>
            <a:ext cx="533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MP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BLANCO CELULA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943600" y="4114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2 DO MENSAJER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609480"/>
            <a:ext cx="6781680" cy="35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Mecanismos de acción de los medicamentos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Los efectos de un fármaco son consecuencia de la interacción con componentes de el organismo, modificando su funció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276720" y="5257800"/>
            <a:ext cx="1628640" cy="666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6400800" y="388620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2133720" y="5181480"/>
            <a:ext cx="949320" cy="9144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5105520" y="5334120"/>
            <a:ext cx="1030320" cy="4968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0" y="4572000"/>
            <a:ext cx="175248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481644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Los fármacos que se ligan a receptores fisiológicos y remedan los efectos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1600" y="12952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Times New Roman"/>
              </a:rPr>
              <a:t>AGONISTAS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LOS FARMACOS SE CLASIFICAN E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1454040" cy="23623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029200" y="1981080"/>
            <a:ext cx="1454040" cy="23623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838080" y="2362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HORMON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2362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FARMAC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3581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RECEPTO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5520" y="35053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RECEPTO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2209680" y="2514600"/>
            <a:ext cx="2230560" cy="1249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5"/>
          <a:stretch/>
        </p:blipFill>
        <p:spPr>
          <a:xfrm>
            <a:off x="6477120" y="2514600"/>
            <a:ext cx="2230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4575240"/>
            <a:ext cx="7391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*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Liga al recepto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*No produce efecto endogen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*Inhibe acción del agonist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99"/>
                </a:solidFill>
                <a:latin typeface="Times New Roman"/>
              </a:rPr>
              <a:t>ANTAGONISTAS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886200" y="1981080"/>
            <a:ext cx="1143000" cy="2316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3276720" y="2209680"/>
            <a:ext cx="1028520" cy="17528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952880" y="2133720"/>
            <a:ext cx="885960" cy="20383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419720" y="2362320"/>
            <a:ext cx="304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FARMAC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60320" y="2209680"/>
            <a:ext cx="337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cc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cc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cc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cc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cc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cc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cc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59400" y="2133720"/>
            <a:ext cx="372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6324480" y="1905120"/>
            <a:ext cx="243864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6520" y="914400"/>
            <a:ext cx="5867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0"/>
            <a:ext cx="8610480" cy="68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CARACTERISTICAS GENERAL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LA INNVESTIGACIÓN DE LA FARMACODINAMIA NOS OBLIGA A CONOCER SUS DIVERSOS COMPONETES COMO SON: RECEPTORES SUS ESTRUCTURAS Y SUS FUNCIONES, LAS  DIVERSAS VÍAS DE SEÑALIZACIÓN ACTIVADAS POR LOS MISMOS RECEPTORES 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ADEMAS DE ESTUDIAR A LOS FARMACOS  SU NATURALEZA Y SUS MECANISMOS  DE ACCIÓN DENTRO DEL ORGANISMO, TENIENDO ENTONCES UNA AMPLIA GAMA DE CONOCIMIENTOS POR  APRENDER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85800" y="609480"/>
            <a:ext cx="7696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Existen otros fármacos denominados </a:t>
            </a: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AGONISTAS PARCIALES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;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 ya que estos son parcialmente eficaces como agonista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0"/>
            <a:ext cx="7696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Otros fármacos estabilizan y protegen al receptor de cambios conformacionales independientes del agonista y se denominan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ANTAGONISTAS NEGATIVOS O AGONISTAS INVERSOS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04920" y="457200"/>
            <a:ext cx="457200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imes New Roman"/>
              </a:rPr>
              <a:t>UNION FARMACO RECEPTO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Times New Roman"/>
              </a:rPr>
              <a:t>*UNION QUIMICA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-PUENTES DE HIDROGENO             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-HIDROFOB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- FZAS. VAN DER     WAAL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ccecff"/>
                </a:solidFill>
                <a:latin typeface="Times New Roman"/>
              </a:rPr>
              <a:t>-COVALENT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4419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1295280" y="0"/>
            <a:ext cx="69343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LACION DIRECT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ESTRUCTURA- ACTIVIDAD DEL FARMAC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Y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CEPTO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23800" cy="14475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6629400" y="1752480"/>
            <a:ext cx="523800" cy="13716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752480" y="3124080"/>
            <a:ext cx="15242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MOLECULA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3048120"/>
            <a:ext cx="1600200" cy="3373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RECEPTO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3733920"/>
            <a:ext cx="17524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TAMAÑ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FORM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POSICION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ESTRUCTUR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248520" y="3809880"/>
            <a:ext cx="243828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FORM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POSICION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ESTRUCTUR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CARG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SITIOS DE ACTIVIDAD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4114800" y="3962520"/>
            <a:ext cx="973080" cy="2173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3352680" y="63165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CCION OPTIMA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3429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AFINIDAD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05320" y="3581280"/>
            <a:ext cx="30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ccecff"/>
                </a:solidFill>
                <a:latin typeface="Times New Roman"/>
              </a:rPr>
              <a:t>]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05520" y="3581280"/>
            <a:ext cx="18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ccecff"/>
                </a:solidFill>
                <a:latin typeface="Times New Roman"/>
              </a:rPr>
              <a:t>[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057400" y="3200400"/>
            <a:ext cx="5276880" cy="3409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2819520" y="3809880"/>
            <a:ext cx="473040" cy="1173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2819520" y="2514600"/>
            <a:ext cx="473040" cy="11732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809880" y="4800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CELUL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1640" y="2209680"/>
            <a:ext cx="5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ccecff"/>
                </a:solidFill>
                <a:latin typeface="Times New Roman"/>
              </a:rPr>
              <a:t>[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0880" y="2286000"/>
            <a:ext cx="3049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RECEPTO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066680" y="251460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EXTRACELULA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36496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INTRACELULA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5480" y="1447920"/>
            <a:ext cx="183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FARMACO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43600" y="1447920"/>
            <a:ext cx="59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600" spc="-1" strike="noStrike">
                <a:solidFill>
                  <a:srgbClr val="ffff00"/>
                </a:solidFill>
                <a:latin typeface="Times New Roman"/>
              </a:rPr>
              <a:t>[</a:t>
            </a:r>
            <a:endParaRPr b="0" lang="en-US" sz="9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77120" y="1820880"/>
            <a:ext cx="2666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CONCENTRACION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*FARMACO DISPONIBL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5"/>
          <a:stretch/>
        </p:blipFill>
        <p:spPr>
          <a:xfrm>
            <a:off x="6781680" y="2895480"/>
            <a:ext cx="1454400" cy="2087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2895480" y="297180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335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95280" y="304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ITIO DE ACCION DE LOS MEDICAMENTOS EN LA CELULA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62120" y="533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INTERACCION DE LOS FARMACO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" y="3429000"/>
            <a:ext cx="2057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INTERACCION DEL FARMAC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505320" y="502920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362320" y="3048120"/>
            <a:ext cx="327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RECEPTOR CON  FUNCIONES COMUNES AL RESTO DE  LAS CELULA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5257800" y="3505320"/>
            <a:ext cx="1258920" cy="6490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629400" y="3124080"/>
            <a:ext cx="2514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66ff33"/>
                </a:solidFill>
                <a:latin typeface="Times New Roman"/>
              </a:rPr>
              <a:t>EFECT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Times New Roman"/>
              </a:rPr>
              <a:t>GENERALIZAD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2743200"/>
            <a:ext cx="18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0" spc="-1" strike="noStrike">
                <a:solidFill>
                  <a:srgbClr val="ffff00"/>
                </a:solidFill>
                <a:latin typeface="Times New Roman"/>
              </a:rPr>
              <a:t>[</a:t>
            </a:r>
            <a:endParaRPr b="0" lang="en-US" sz="1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066680" y="0"/>
            <a:ext cx="72392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EFECTOS AMPLIOS 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Y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GENERALES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486400" y="2971800"/>
            <a:ext cx="3352680" cy="34005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2590920" y="3657600"/>
            <a:ext cx="958680" cy="13827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609480" y="2133720"/>
            <a:ext cx="1306800" cy="1935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3733920" y="2971800"/>
            <a:ext cx="1666800" cy="140976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2514600" y="4800600"/>
            <a:ext cx="2276640" cy="1628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7"/>
          <a:stretch/>
        </p:blipFill>
        <p:spPr>
          <a:xfrm>
            <a:off x="3505320" y="3657600"/>
            <a:ext cx="2276280" cy="16286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8"/>
          <a:stretch/>
        </p:blipFill>
        <p:spPr>
          <a:xfrm>
            <a:off x="304920" y="3657600"/>
            <a:ext cx="2276280" cy="16286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9"/>
          <a:stretch/>
        </p:blipFill>
        <p:spPr>
          <a:xfrm>
            <a:off x="2590920" y="3909960"/>
            <a:ext cx="98100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10"/>
          <a:stretch/>
        </p:blipFill>
        <p:spPr>
          <a:xfrm>
            <a:off x="1066680" y="2590920"/>
            <a:ext cx="6001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236232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TERACCI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EL FARMA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ULTR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SELECTIV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2133720"/>
            <a:ext cx="6094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0" spc="-1" strike="noStrike">
                <a:solidFill>
                  <a:srgbClr val="ffff00"/>
                </a:solidFill>
                <a:latin typeface="Times New Roman"/>
              </a:rPr>
              <a:t>[</a:t>
            </a:r>
            <a:endParaRPr b="0" lang="en-US" sz="1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14600" y="281952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EPTOR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PECIFIC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258920" cy="6490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505320" y="403848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781680" y="289548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imes New Roman"/>
              </a:rPr>
              <a:t>EFECT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imes New Roman"/>
              </a:rPr>
              <a:t>ESPECIFICO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380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ACCION DE LOS FARMACO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7543800" y="762120"/>
            <a:ext cx="1371600" cy="22096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3"/>
          <a:stretch/>
        </p:blipFill>
        <p:spPr>
          <a:xfrm>
            <a:off x="7772400" y="1752480"/>
            <a:ext cx="754200" cy="6397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4"/>
          <a:stretch/>
        </p:blipFill>
        <p:spPr>
          <a:xfrm>
            <a:off x="7315200" y="1143000"/>
            <a:ext cx="971640" cy="4856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5"/>
          <a:stretch/>
        </p:blipFill>
        <p:spPr>
          <a:xfrm>
            <a:off x="3505320" y="4114800"/>
            <a:ext cx="1600200" cy="23922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6"/>
          <a:stretch/>
        </p:blipFill>
        <p:spPr>
          <a:xfrm>
            <a:off x="6172200" y="1676520"/>
            <a:ext cx="914400" cy="14475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7"/>
          <a:stretch/>
        </p:blipFill>
        <p:spPr>
          <a:xfrm>
            <a:off x="6095880" y="1905120"/>
            <a:ext cx="819360" cy="48564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8"/>
          <a:stretch/>
        </p:blipFill>
        <p:spPr>
          <a:xfrm>
            <a:off x="6324480" y="2362320"/>
            <a:ext cx="635040" cy="4111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9"/>
          <a:stretch/>
        </p:blipFill>
        <p:spPr>
          <a:xfrm>
            <a:off x="3886200" y="5257800"/>
            <a:ext cx="587520" cy="6112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0"/>
          <a:stretch/>
        </p:blipFill>
        <p:spPr>
          <a:xfrm>
            <a:off x="3429000" y="4191120"/>
            <a:ext cx="1492200" cy="6015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85800" y="1447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1600200"/>
            <a:ext cx="6629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ccecff"/>
                </a:solidFill>
                <a:latin typeface="Times New Roman"/>
              </a:rPr>
              <a:t>EFECTO ESPECIFICO</a:t>
            </a:r>
            <a:endParaRPr b="0" lang="en-US" sz="8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1"/>
          <a:stretch/>
        </p:blipFill>
        <p:spPr>
          <a:xfrm>
            <a:off x="5791320" y="3457440"/>
            <a:ext cx="335268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OLID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09480" y="0"/>
            <a:ext cx="8001000" cy="69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ISTEMA DE RECEPTOR-EFECTOR O VIA DE TRANSDUCCION DE SEÑALES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s el conjunto </a:t>
            </a: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de receptor, su blanco o sitio celular y cualesquiera moléculas intermediaria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s importante saber que en ocasiones la proteína efectora puede sintetizar otro metabolito o molécula señalizadora llamada </a:t>
            </a:r>
            <a:r>
              <a:rPr b="1" i="1" lang="es-ES_tradnl" sz="2400" spc="-1" strike="noStrike">
                <a:solidFill>
                  <a:srgbClr val="ffff00"/>
                </a:solidFill>
                <a:latin typeface="Times New Roman"/>
              </a:rPr>
              <a:t>segundo mensajero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2428920" cy="17143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2133720" y="2362320"/>
            <a:ext cx="1638360" cy="14475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990720" y="2438280"/>
            <a:ext cx="1187280" cy="110664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5"/>
          <a:stretch/>
        </p:blipFill>
        <p:spPr>
          <a:xfrm>
            <a:off x="6019920" y="2286000"/>
            <a:ext cx="1501560" cy="17064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2133720" y="190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FARMA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05120" y="39546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PROTEIN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RECEPTOR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2286000"/>
            <a:ext cx="5335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MP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87692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BLANCO CELULA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41148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2 DO MENSAJER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28600" y="990720"/>
            <a:ext cx="8686800" cy="55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TIP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                             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RECEPTORES      CLASIFICA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                               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FUN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FARMACODINAMI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CLASIFICACIÓ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                              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FARMACOS          MECANISMO DE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            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ACCIÓN                                                 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UNIÓN FARMACO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793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"/>
              </a:rPr>
              <a:t>Mecanismos de transducción de los receptores</a:t>
            </a:r>
            <a:r>
              <a:rPr b="1" lang="es-MX" sz="2400" spc="-1" strike="noStrike">
                <a:solidFill>
                  <a:srgbClr val="e70026"/>
                </a:solidFill>
                <a:latin typeface="TimesNewRoman,Bold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0720" y="228600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ecff"/>
                </a:solidFill>
                <a:latin typeface="Times New Roman"/>
              </a:rPr>
              <a:t>Receptores proteín kinas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ecff"/>
                </a:solidFill>
                <a:latin typeface="TimesNewRoman,Bold;TimesNewRoma"/>
              </a:rPr>
              <a:t>A veces, el propio receptor tiene </a:t>
            </a:r>
            <a:r>
              <a:rPr b="0" lang="es-MX" sz="2800" spc="-1" strike="noStrike">
                <a:solidFill>
                  <a:srgbClr val="ffff00"/>
                </a:solidFill>
                <a:latin typeface="TimesNewRoman,Bold;TimesNewRoma"/>
              </a:rPr>
              <a:t>actividad enzimática proteín kinasa</a:t>
            </a:r>
            <a:r>
              <a:rPr b="0" lang="es-MX" sz="2800" spc="-1" strike="noStrike">
                <a:solidFill>
                  <a:srgbClr val="ccecff"/>
                </a:solidFill>
                <a:latin typeface="TimesNewRoman,Bold;TimesNewRoma"/>
              </a:rPr>
              <a:t>, o está acoplado con una proteín kinasa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56552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30492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"/>
              </a:rPr>
              <a:t>Mecanismos de transducción de los receptores</a:t>
            </a:r>
            <a:r>
              <a:rPr b="1" lang="es-MX" sz="2400" spc="-1" strike="noStrike">
                <a:solidFill>
                  <a:srgbClr val="e70026"/>
                </a:solidFill>
                <a:latin typeface="TimesNewRoman,Bold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75248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 New Roman"/>
              </a:rPr>
              <a:t>Receptores citoplasmátic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Algunas hormonas son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liposolubles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y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atraviesan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la membana celular, y los receptores para estas hormonas son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as intracelular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El receptor citoplasmático unido a la hormona se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traslada al núcleo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celular y allí se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une al ADN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,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activando o inhibiendo la expresión de ciertos genes</a:t>
            </a:r>
            <a:r>
              <a:rPr b="0" lang="es-MX" sz="2400" spc="-1" strike="noStrike">
                <a:solidFill>
                  <a:srgbClr val="ffff00"/>
                </a:solidFill>
                <a:latin typeface="TimesNewRoman,Bold;TimesNewRoma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4568760" y="3424320"/>
            <a:ext cx="457200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762120" y="53352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FACTORES DE TRANSCRIPCION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Los receptores de hormonas esteroides, hormona Tiroidea, vitamina D y los retinoides son proteínas ligadores de DNA soluble que regulan la transcripción de genes específico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04920"/>
            <a:ext cx="35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4572000" y="3124080"/>
            <a:ext cx="457200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85800" y="457200"/>
            <a:ext cx="76201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jemplos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l grupo mencionado incluye el receptor colinérgico nicotínico; el de GABAA   para ácido r-aminobutírico y los receptores de glutamato, aspartato y glicina. Todas ellas son proteínas con múltiples subunidades que abarcan todo el espesor de la membrana plasmátic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828800" y="2590920"/>
          <a:ext cx="5638680" cy="377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2590920"/>
                    <a:ext cx="5638680" cy="37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762120" y="457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Times New Roman"/>
              </a:rPr>
              <a:t>SEGUNDOS MENSAJEROS CITOPLÁSMIC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143000" y="1424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"/>
              </a:rPr>
              <a:t>Mecanismos de transducción de los receptores</a:t>
            </a:r>
            <a:r>
              <a:rPr b="1" lang="es-MX" sz="2400" spc="-1" strike="noStrike">
                <a:solidFill>
                  <a:srgbClr val="e70026"/>
                </a:solidFill>
                <a:latin typeface="TimesNewRoman,Bold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2567160"/>
            <a:ext cx="533376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MP cíclic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El receptor activa un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a G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La proteína G activa una adenil ciclasa, que produce AMP cíclico a partir de ATP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El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AMP cíclico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se une y activa una proteín kinasa, denominad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 kinasa A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La </a:t>
            </a:r>
            <a:r>
              <a:rPr b="1" lang="es-MX" sz="2400" spc="-1" strike="noStrike">
                <a:solidFill>
                  <a:srgbClr val="ffff00"/>
                </a:solidFill>
                <a:latin typeface="TimesNewRoman,Bold;TimesNewRoma"/>
              </a:rPr>
              <a:t>proteín kinasa A fosforila</a:t>
            </a:r>
            <a:r>
              <a:rPr b="1" lang="es-MX" sz="2400" spc="-1" strike="noStrike">
                <a:solidFill>
                  <a:srgbClr val="ccecff"/>
                </a:solidFill>
                <a:latin typeface="TimesNewRoman,Bold;TimesNewRoma"/>
              </a:rPr>
              <a:t> otras proteínas y modifica su actividad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6858000" y="2414520"/>
            <a:ext cx="1905120" cy="4267440"/>
            <a:chOff x="6858000" y="2414520"/>
            <a:chExt cx="1905120" cy="4267440"/>
          </a:xfrm>
        </p:grpSpPr>
        <p:sp>
          <p:nvSpPr>
            <p:cNvPr id="468" name=""/>
            <p:cNvSpPr/>
            <p:nvPr/>
          </p:nvSpPr>
          <p:spPr>
            <a:xfrm>
              <a:off x="6858000" y="3100320"/>
              <a:ext cx="1905120" cy="152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5400000">
              <a:off x="7353360" y="2757600"/>
              <a:ext cx="990720" cy="76176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ccecff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43800" y="2414520"/>
              <a:ext cx="685800" cy="304920"/>
            </a:xfrm>
            <a:prstGeom prst="flowChartMerge">
              <a:avLst/>
            </a:prstGeom>
            <a:solidFill>
              <a:srgbClr val="ff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20120" y="3710160"/>
              <a:ext cx="457200" cy="91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315200" y="5919840"/>
              <a:ext cx="990720" cy="762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33300"/>
                  </a:solidFill>
                  <a:latin typeface="Times New Roman"/>
                </a:rPr>
                <a:t>cAMP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20120" y="4776840"/>
              <a:ext cx="457200" cy="91440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0066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85800" y="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REGULACION DE RECEPTOR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838080"/>
            <a:ext cx="9144000" cy="2893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ON CONTROLADOS POR MECANISMOS DE CONTROL HOMEOSTATATICO Y DE REGULACION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*DESENSIBILIZACION  (ESTADO REFRACTARIO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*DESENSIBILIZACION  HOMOLOG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*DESENSIBILIZACION  HETEROLOG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2695680" cy="216216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572000" y="5029200"/>
            <a:ext cx="1133640" cy="13716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6553080" y="403848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5"/>
          <a:stretch/>
        </p:blipFill>
        <p:spPr>
          <a:xfrm>
            <a:off x="6172200" y="5638680"/>
            <a:ext cx="914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90720" y="228600"/>
            <a:ext cx="7391160" cy="61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 u="sng">
                <a:solidFill>
                  <a:srgbClr val="ccecff"/>
                </a:solidFill>
                <a:uFillTx/>
                <a:latin typeface="Arial Black"/>
              </a:rPr>
              <a:t>FARMACODINAMI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CONCEPTOS Y DEFINICIONE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*Es el estudio de los efectos bioquímicos y fisiológicos de los fármacos y sus mecanismos de acción en el organismo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*Es el estudio de las interacciones químicas o físicas entre el fármaco y la célula blanco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95560" y="638172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19600" y="481968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53000" y="4371840"/>
            <a:ext cx="9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62320" y="5981760"/>
            <a:ext cx="38160" cy="19080"/>
          </a:xfrm>
          <a:custGeom>
            <a:avLst/>
            <a:gdLst/>
            <a:ahLst/>
            <a:rect l="l" t="t" r="r" b="b"/>
            <a:pathLst>
              <a:path w="24" h="12">
                <a:moveTo>
                  <a:pt x="0" y="12"/>
                </a:moveTo>
                <a:lnTo>
                  <a:pt x="6" y="12"/>
                </a:lnTo>
                <a:lnTo>
                  <a:pt x="18" y="12"/>
                </a:lnTo>
                <a:lnTo>
                  <a:pt x="24" y="6"/>
                </a:lnTo>
                <a:lnTo>
                  <a:pt x="24" y="6"/>
                </a:lnTo>
                <a:lnTo>
                  <a:pt x="2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2040" y="5962680"/>
            <a:ext cx="47520" cy="19080"/>
          </a:xfrm>
          <a:custGeom>
            <a:avLst/>
            <a:gdLst/>
            <a:ahLst/>
            <a:rect l="l" t="t" r="r" b="b"/>
            <a:pathLst>
              <a:path w="30" h="12">
                <a:moveTo>
                  <a:pt x="0" y="0"/>
                </a:moveTo>
                <a:lnTo>
                  <a:pt x="0" y="6"/>
                </a:lnTo>
                <a:lnTo>
                  <a:pt x="6" y="6"/>
                </a:lnTo>
                <a:lnTo>
                  <a:pt x="18" y="12"/>
                </a:lnTo>
                <a:lnTo>
                  <a:pt x="24" y="12"/>
                </a:lnTo>
                <a:lnTo>
                  <a:pt x="30" y="12"/>
                </a:lnTo>
                <a:lnTo>
                  <a:pt x="30" y="6"/>
                </a:lnTo>
                <a:lnTo>
                  <a:pt x="3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38800" y="5972040"/>
            <a:ext cx="28440" cy="478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30"/>
                </a:moveTo>
                <a:lnTo>
                  <a:pt x="6" y="30"/>
                </a:lnTo>
                <a:lnTo>
                  <a:pt x="12" y="24"/>
                </a:lnTo>
                <a:lnTo>
                  <a:pt x="12" y="24"/>
                </a:lnTo>
                <a:lnTo>
                  <a:pt x="18" y="12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38800" y="6010200"/>
            <a:ext cx="1908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12" y="0"/>
                </a:moveTo>
                <a:lnTo>
                  <a:pt x="12" y="6"/>
                </a:lnTo>
                <a:lnTo>
                  <a:pt x="12" y="18"/>
                </a:lnTo>
                <a:lnTo>
                  <a:pt x="6" y="24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19520" y="6105600"/>
            <a:ext cx="19080" cy="104760"/>
          </a:xfrm>
          <a:custGeom>
            <a:avLst/>
            <a:gdLst/>
            <a:ahLst/>
            <a:rect l="l" t="t" r="r" b="b"/>
            <a:pathLst>
              <a:path w="12" h="66">
                <a:moveTo>
                  <a:pt x="12" y="0"/>
                </a:moveTo>
                <a:lnTo>
                  <a:pt x="12" y="36"/>
                </a:lnTo>
                <a:lnTo>
                  <a:pt x="12" y="48"/>
                </a:lnTo>
                <a:lnTo>
                  <a:pt x="6" y="54"/>
                </a:lnTo>
                <a:lnTo>
                  <a:pt x="0" y="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8600" y="64483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2"/>
                </a:moveTo>
                <a:lnTo>
                  <a:pt x="12" y="18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4880" y="6276960"/>
            <a:ext cx="2880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0" y="24"/>
                </a:moveTo>
                <a:lnTo>
                  <a:pt x="6" y="18"/>
                </a:lnTo>
                <a:lnTo>
                  <a:pt x="18" y="18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62600" y="6010200"/>
            <a:ext cx="28440" cy="85680"/>
          </a:xfrm>
          <a:custGeom>
            <a:avLst/>
            <a:gdLst/>
            <a:ahLst/>
            <a:rect l="l" t="t" r="r" b="b"/>
            <a:pathLst>
              <a:path w="18" h="54">
                <a:moveTo>
                  <a:pt x="18" y="54"/>
                </a:moveTo>
                <a:lnTo>
                  <a:pt x="12" y="36"/>
                </a:lnTo>
                <a:lnTo>
                  <a:pt x="12" y="2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657320" y="5000760"/>
            <a:ext cx="97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38600" y="4962600"/>
            <a:ext cx="1908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24"/>
                </a:moveTo>
                <a:lnTo>
                  <a:pt x="12" y="12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514760" y="5276880"/>
            <a:ext cx="28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9720" y="533412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24" y="24"/>
                </a:moveTo>
                <a:lnTo>
                  <a:pt x="24" y="24"/>
                </a:lnTo>
                <a:lnTo>
                  <a:pt x="18" y="18"/>
                </a:lnTo>
                <a:lnTo>
                  <a:pt x="12" y="12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2760" y="4971960"/>
            <a:ext cx="47880" cy="181080"/>
          </a:xfrm>
          <a:custGeom>
            <a:avLst/>
            <a:gdLst/>
            <a:ahLst/>
            <a:rect l="l" t="t" r="r" b="b"/>
            <a:pathLst>
              <a:path w="30" h="114">
                <a:moveTo>
                  <a:pt x="30" y="114"/>
                </a:moveTo>
                <a:lnTo>
                  <a:pt x="24" y="108"/>
                </a:lnTo>
                <a:lnTo>
                  <a:pt x="24" y="102"/>
                </a:lnTo>
                <a:lnTo>
                  <a:pt x="24" y="90"/>
                </a:lnTo>
                <a:lnTo>
                  <a:pt x="18" y="78"/>
                </a:lnTo>
                <a:lnTo>
                  <a:pt x="18" y="72"/>
                </a:lnTo>
                <a:lnTo>
                  <a:pt x="18" y="66"/>
                </a:lnTo>
                <a:lnTo>
                  <a:pt x="12" y="66"/>
                </a:lnTo>
                <a:lnTo>
                  <a:pt x="6" y="60"/>
                </a:lnTo>
                <a:lnTo>
                  <a:pt x="6" y="48"/>
                </a:lnTo>
                <a:lnTo>
                  <a:pt x="0" y="42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314960" y="4790880"/>
            <a:ext cx="1908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81560" y="4753080"/>
            <a:ext cx="133200" cy="47520"/>
          </a:xfrm>
          <a:custGeom>
            <a:avLst/>
            <a:gdLst/>
            <a:ahLst/>
            <a:rect l="l" t="t" r="r" b="b"/>
            <a:pathLst>
              <a:path w="84" h="30">
                <a:moveTo>
                  <a:pt x="0" y="0"/>
                </a:moveTo>
                <a:lnTo>
                  <a:pt x="6" y="6"/>
                </a:lnTo>
                <a:lnTo>
                  <a:pt x="6" y="6"/>
                </a:lnTo>
                <a:lnTo>
                  <a:pt x="24" y="6"/>
                </a:lnTo>
                <a:lnTo>
                  <a:pt x="54" y="12"/>
                </a:lnTo>
                <a:lnTo>
                  <a:pt x="66" y="12"/>
                </a:lnTo>
                <a:lnTo>
                  <a:pt x="78" y="18"/>
                </a:lnTo>
                <a:lnTo>
                  <a:pt x="84" y="24"/>
                </a:lnTo>
                <a:lnTo>
                  <a:pt x="84" y="24"/>
                </a:lnTo>
                <a:lnTo>
                  <a:pt x="84" y="24"/>
                </a:lnTo>
                <a:lnTo>
                  <a:pt x="84" y="3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34000" y="4772160"/>
            <a:ext cx="28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43560" y="4686480"/>
            <a:ext cx="19080" cy="2844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18"/>
                </a:moveTo>
                <a:lnTo>
                  <a:pt x="6" y="18"/>
                </a:lnTo>
                <a:lnTo>
                  <a:pt x="12" y="12"/>
                </a:lnTo>
                <a:lnTo>
                  <a:pt x="12" y="6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600440" y="4667040"/>
            <a:ext cx="972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2280" y="452448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524480"/>
            <a:ext cx="9360" cy="9360"/>
          </a:xfrm>
          <a:custGeom>
            <a:avLst/>
            <a:gdLst/>
            <a:ahLst/>
            <a:rect l="l" t="t" r="r" b="b"/>
            <a:pathLst>
              <a:path w="6" h="6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6600" y="461952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57960" y="4495680"/>
            <a:ext cx="28440" cy="1800"/>
          </a:xfrm>
          <a:custGeom>
            <a:avLst/>
            <a:gdLst/>
            <a:ahLst/>
            <a:rect l="l" t="t" r="r" b="b"/>
            <a:pathLst>
              <a:path w="18" h="0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62320" y="5981760"/>
            <a:ext cx="38160" cy="19080"/>
          </a:xfrm>
          <a:custGeom>
            <a:avLst/>
            <a:gdLst/>
            <a:ahLst/>
            <a:rect l="l" t="t" r="r" b="b"/>
            <a:pathLst>
              <a:path w="24" h="12">
                <a:moveTo>
                  <a:pt x="0" y="12"/>
                </a:moveTo>
                <a:lnTo>
                  <a:pt x="6" y="12"/>
                </a:lnTo>
                <a:lnTo>
                  <a:pt x="18" y="12"/>
                </a:lnTo>
                <a:lnTo>
                  <a:pt x="18" y="12"/>
                </a:lnTo>
                <a:lnTo>
                  <a:pt x="24" y="6"/>
                </a:lnTo>
                <a:lnTo>
                  <a:pt x="24" y="6"/>
                </a:lnTo>
                <a:lnTo>
                  <a:pt x="2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38800" y="5972040"/>
            <a:ext cx="28440" cy="47880"/>
          </a:xfrm>
          <a:custGeom>
            <a:avLst/>
            <a:gdLst/>
            <a:ahLst/>
            <a:rect l="l" t="t" r="r" b="b"/>
            <a:pathLst>
              <a:path w="18" h="30">
                <a:moveTo>
                  <a:pt x="0" y="30"/>
                </a:moveTo>
                <a:lnTo>
                  <a:pt x="6" y="30"/>
                </a:lnTo>
                <a:lnTo>
                  <a:pt x="12" y="24"/>
                </a:lnTo>
                <a:lnTo>
                  <a:pt x="18" y="12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38800" y="6010200"/>
            <a:ext cx="1908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12" y="0"/>
                </a:moveTo>
                <a:lnTo>
                  <a:pt x="12" y="6"/>
                </a:lnTo>
                <a:lnTo>
                  <a:pt x="12" y="18"/>
                </a:lnTo>
                <a:lnTo>
                  <a:pt x="6" y="24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19520" y="6105600"/>
            <a:ext cx="19080" cy="104760"/>
          </a:xfrm>
          <a:custGeom>
            <a:avLst/>
            <a:gdLst/>
            <a:ahLst/>
            <a:rect l="l" t="t" r="r" b="b"/>
            <a:pathLst>
              <a:path w="12" h="66">
                <a:moveTo>
                  <a:pt x="12" y="0"/>
                </a:moveTo>
                <a:lnTo>
                  <a:pt x="12" y="18"/>
                </a:lnTo>
                <a:lnTo>
                  <a:pt x="12" y="36"/>
                </a:lnTo>
                <a:lnTo>
                  <a:pt x="12" y="48"/>
                </a:lnTo>
                <a:lnTo>
                  <a:pt x="0" y="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38600" y="64483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2"/>
                </a:moveTo>
                <a:lnTo>
                  <a:pt x="12" y="18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14880" y="6276960"/>
            <a:ext cx="28800" cy="38160"/>
          </a:xfrm>
          <a:custGeom>
            <a:avLst/>
            <a:gdLst/>
            <a:ahLst/>
            <a:rect l="l" t="t" r="r" b="b"/>
            <a:pathLst>
              <a:path w="18" h="24">
                <a:moveTo>
                  <a:pt x="0" y="24"/>
                </a:moveTo>
                <a:lnTo>
                  <a:pt x="6" y="18"/>
                </a:lnTo>
                <a:lnTo>
                  <a:pt x="18" y="18"/>
                </a:lnTo>
                <a:lnTo>
                  <a:pt x="1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62600" y="6010200"/>
            <a:ext cx="28440" cy="85680"/>
          </a:xfrm>
          <a:custGeom>
            <a:avLst/>
            <a:gdLst/>
            <a:ahLst/>
            <a:rect l="l" t="t" r="r" b="b"/>
            <a:pathLst>
              <a:path w="18" h="54">
                <a:moveTo>
                  <a:pt x="18" y="54"/>
                </a:moveTo>
                <a:lnTo>
                  <a:pt x="12" y="36"/>
                </a:lnTo>
                <a:lnTo>
                  <a:pt x="12" y="2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57320" y="5000760"/>
            <a:ext cx="97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8600" y="4971960"/>
            <a:ext cx="19080" cy="28800"/>
          </a:xfrm>
          <a:custGeom>
            <a:avLst/>
            <a:gdLst/>
            <a:ahLst/>
            <a:rect l="l" t="t" r="r" b="b"/>
            <a:pathLst>
              <a:path w="12" h="18">
                <a:moveTo>
                  <a:pt x="0" y="18"/>
                </a:moveTo>
                <a:lnTo>
                  <a:pt x="12" y="6"/>
                </a:lnTo>
                <a:lnTo>
                  <a:pt x="1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514760" y="5276880"/>
            <a:ext cx="28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5334120"/>
            <a:ext cx="38160" cy="38160"/>
          </a:xfrm>
          <a:custGeom>
            <a:avLst/>
            <a:gdLst/>
            <a:ahLst/>
            <a:rect l="l" t="t" r="r" b="b"/>
            <a:pathLst>
              <a:path w="24" h="24">
                <a:moveTo>
                  <a:pt x="24" y="24"/>
                </a:moveTo>
                <a:lnTo>
                  <a:pt x="24" y="24"/>
                </a:lnTo>
                <a:lnTo>
                  <a:pt x="18" y="18"/>
                </a:lnTo>
                <a:lnTo>
                  <a:pt x="12" y="12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52760" y="4971960"/>
            <a:ext cx="47880" cy="181080"/>
          </a:xfrm>
          <a:custGeom>
            <a:avLst/>
            <a:gdLst/>
            <a:ahLst/>
            <a:rect l="l" t="t" r="r" b="b"/>
            <a:pathLst>
              <a:path w="30" h="114">
                <a:moveTo>
                  <a:pt x="30" y="114"/>
                </a:moveTo>
                <a:lnTo>
                  <a:pt x="24" y="108"/>
                </a:lnTo>
                <a:lnTo>
                  <a:pt x="24" y="102"/>
                </a:lnTo>
                <a:lnTo>
                  <a:pt x="24" y="90"/>
                </a:lnTo>
                <a:lnTo>
                  <a:pt x="18" y="78"/>
                </a:lnTo>
                <a:lnTo>
                  <a:pt x="18" y="72"/>
                </a:lnTo>
                <a:lnTo>
                  <a:pt x="12" y="66"/>
                </a:lnTo>
                <a:lnTo>
                  <a:pt x="6" y="60"/>
                </a:lnTo>
                <a:lnTo>
                  <a:pt x="6" y="48"/>
                </a:lnTo>
                <a:lnTo>
                  <a:pt x="0" y="42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34000" y="4772160"/>
            <a:ext cx="28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6384960"/>
            <a:ext cx="2362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cecff"/>
                </a:solidFill>
                <a:latin typeface="Times New Roman"/>
              </a:rPr>
              <a:t>GOODMAN </a:t>
            </a:r>
            <a:r>
              <a:rPr b="1" lang="es-ES_tradnl" sz="900" spc="-1" strike="noStrike">
                <a:solidFill>
                  <a:srgbClr val="ccecff"/>
                </a:solidFill>
                <a:latin typeface="Times New Roman"/>
              </a:rPr>
              <a:t>AND</a:t>
            </a:r>
            <a:r>
              <a:rPr b="1" lang="es-ES_tradnl" sz="1000" spc="-1" strike="noStrike">
                <a:solidFill>
                  <a:srgbClr val="ccecff"/>
                </a:solidFill>
                <a:latin typeface="Times New Roman"/>
              </a:rPr>
              <a:t> GILMAN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ccecff"/>
                </a:solidFill>
                <a:latin typeface="Times New Roman"/>
              </a:rPr>
              <a:t>9NA ED.1996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838080" y="304920"/>
            <a:ext cx="7620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121932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ccecff"/>
                </a:solidFill>
                <a:latin typeface="Times New Roman"/>
              </a:rPr>
              <a:t>* 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457200"/>
            <a:ext cx="70866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*También puede definirse como el estudio de las acciones y efectos de los compuestos químicos en todos los niveles de organización de la materia viviente y del manejo de los compuestos químicos por el organismo.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ecff"/>
                </a:solidFill>
                <a:latin typeface="Times New Roman"/>
              </a:rPr>
              <a:t>*La ciencia y el estudio de como los compuestos químicos producen sus efectos biológicos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6288120"/>
            <a:ext cx="198108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ccecff"/>
                </a:solidFill>
                <a:latin typeface="Times New Roman"/>
              </a:rPr>
              <a:t>      </a:t>
            </a:r>
            <a:r>
              <a:rPr b="1" lang="es-ES_tradnl" sz="900" spc="-1" strike="noStrike">
                <a:solidFill>
                  <a:srgbClr val="ccecff"/>
                </a:solidFill>
                <a:latin typeface="Times New Roman"/>
              </a:rPr>
              <a:t>FARMACOLOGIA ACCIONES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ccecff"/>
                </a:solidFill>
                <a:latin typeface="Times New Roman"/>
              </a:rPr>
              <a:t>Y REACCIONES MEDICAMENTOSAS 1982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85800"/>
            <a:ext cx="7315200" cy="57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0f670"/>
                </a:solidFill>
                <a:latin typeface="Times New Roman"/>
              </a:rPr>
              <a:t>RECEPTOR: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ecff"/>
                </a:solidFill>
                <a:latin typeface="Times New Roman"/>
              </a:rPr>
              <a:t>Es un componente del organismo con el cual  interactua el agente químico y este puede ser cualquier componente macromolecular funcional del organismo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62920" y="6400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ccecff"/>
                </a:solidFill>
                <a:latin typeface="Times New Roman"/>
              </a:rPr>
              <a:t>GOODMAN AND GILAMAN 9NA ED. 1996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343400" y="762120"/>
            <a:ext cx="4800600" cy="54864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0" y="609480"/>
            <a:ext cx="487692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LAS PROTEINAS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s-ES_tradnl" sz="4800" spc="-1" strike="noStrike">
                <a:solidFill>
                  <a:srgbClr val="ccecff"/>
                </a:solidFill>
                <a:latin typeface="Times New Roman"/>
              </a:rPr>
              <a:t>CONSTITUYEN LA CLASE MAS IMPORTANTE DE RECEPTORES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6629400"/>
            <a:ext cx="251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ccecff"/>
                </a:solidFill>
                <a:latin typeface="Times New Roman"/>
              </a:rPr>
              <a:t>GOODMAN AND GILMAN 9 NA ED 1996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2:00:53Z</dcterms:created>
  <dc:creator>Pedro Gonzalez</dc:creator>
  <dc:description/>
  <dc:language>en-US</dc:language>
  <cp:lastModifiedBy>hp pavilion</cp:lastModifiedBy>
  <dcterms:modified xsi:type="dcterms:W3CDTF">2005-01-02T14:06:57Z</dcterms:modified>
  <cp:revision>32</cp:revision>
  <dc:subject/>
  <dc:title>FarmacodinamiaPresentación</dc:title>
</cp:coreProperties>
</file>